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12.jpeg" ContentType="image/jpeg"/>
  <Override PartName="/ppt/media/image20.jpeg" ContentType="image/jpeg"/>
  <Override PartName="/ppt/media/image18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9.jpeg" ContentType="image/jpeg"/>
  <Override PartName="/ppt/media/image13.jpeg" ContentType="image/jpeg"/>
  <Override PartName="/ppt/media/image22.jpeg" ContentType="image/jpeg"/>
  <Override PartName="/ppt/media/image1.jpeg" ContentType="image/jpeg"/>
  <Override PartName="/ppt/media/image11.png" ContentType="image/png"/>
  <Override PartName="/ppt/media/image19.jpeg" ContentType="image/jpeg"/>
  <Override PartName="/ppt/media/image21.jpeg" ContentType="image/jpeg"/>
  <Override PartName="/ppt/media/camera.wav" ContentType="audio/x-wav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7326-31C7-4E01-B700-951440CFE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3897-1168-48D2-B28C-42B165BD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70C9-15D8-4FF9-831D-60FB2ADF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D7C4-E288-4097-BA99-634C800A1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5BE7-00A0-4ABD-82FB-3F8331839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7622-2C03-46FA-90C5-B94BC602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82EC-6D61-4BEC-8D13-E4F13E8D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DA09-1C08-45E3-8AC3-D2C2018C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C651-F68A-484D-B213-CF35113F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0094-2974-4398-8CF4-5FA57CC5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1085-B4C2-4966-A299-A43AAB7F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6F4D-5CB7-4843-953C-7F8A55AC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68F0-B597-494C-9331-312733BF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8668-535F-438A-B023-FC9A3DF0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93B2-19ED-42B5-ABAB-FAB296DD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D8B5-EFA5-4527-86DB-321DCB39A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5D5F-7BCE-4D75-8E79-D5D878BBA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9D4F-048D-42EB-A2F8-80E9E5AE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1E6B-6F6A-4337-8DC2-489847EE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28A1-170D-45F1-8EEB-84B466DF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CA0D-EA7D-447A-8B41-F4E6D3C5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AA8B-2407-4C52-AA2D-86D71DA5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8D0B-E6D6-469F-9189-C377416B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1184-5CCD-482C-831A-12C67780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ECCF-8308-4A39-97A3-AF8A09804B62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7C0C-7524-4A95-8014-96353DDA8F20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palomeich.blogia.com/upload/20070121223551-devoir.jpg&amp;imgrefurl=http://palomeich.blogia.com/temas/varios.php&amp;usg=__6MjAoEW9wM8Kz9XRHzdQOFbdVQc=&amp;h=455&amp;w=375&amp;sz=26&amp;hl=es&amp;start=6&amp;um=1&amp;tbnid=m40DUSoqhmQ1kM:&amp;tbnh=128&amp;tbnw=105&amp;prev=/images%3Fq%3Dalumnos%2Bhaciendo%2Bexamen%26hl%3Des%26rlz%3D1W1ADSA_es%26um%3D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exo%20El%20ruido%20mata.doc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alvarez.files.wordpress.com/2007/10/ruido.jpg&amp;imgrefurl=http://walvarez.wordpress.com/2007/10/11/ruido/&amp;usg=__9PwayCR48NMeQ-rCrO1qpUE5tsA=&amp;h=1279&amp;w=1652&amp;sz=417&amp;hl=es&amp;start=1&amp;tbnid=jP_H6Q8-j4fKrM:&amp;tbnh=116&amp;tbnw=150&amp;prev=/images%3Fq%3Druido%26imgsz%3Dl%26gbv%3D2%26hl%3Des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826920" y="981000"/>
            <a:ext cx="7561440" cy="27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Comentario crítico</a:t>
            </a:r>
            <a:endParaRPr b="0" lang="en-US" sz="2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de las pruebas</a:t>
            </a:r>
            <a:endParaRPr b="0" lang="en-US" sz="2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de Selectividad</a:t>
            </a:r>
            <a:endParaRPr b="0" lang="en-US" sz="2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7" name="Picture 8" descr="20070121223551-devoi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4005360"/>
            <a:ext cx="1354320" cy="1650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3300"/>
                </a:solidFill>
                <a:latin typeface="Arial"/>
              </a:rPr>
              <a:t>Modelos de estructur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640" y="1268280"/>
            <a:ext cx="357984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Arial"/>
              </a:rPr>
              <a:t>Deduc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Arial"/>
              </a:rPr>
              <a:t>Induc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Arial"/>
              </a:rPr>
              <a:t>Encuadra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Arial"/>
              </a:rPr>
              <a:t>Enumera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Arial"/>
              </a:rPr>
              <a:t>Secuen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Arial"/>
              </a:rPr>
              <a:t>Comparación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es-ES" sz="2600" spc="-1" strike="noStrike">
                <a:solidFill>
                  <a:srgbClr val="3333cc"/>
                </a:solidFill>
                <a:latin typeface="Arial"/>
              </a:rPr>
              <a:t>contras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Arial"/>
              </a:rPr>
              <a:t>Problema/solu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Arial"/>
              </a:rPr>
              <a:t>Tormenta de idea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219640" y="1557360"/>
            <a:ext cx="3495600" cy="1465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  <a:ea typeface="Arial"/>
              </a:rPr>
              <a:t>Muchos autores, especialmente los más academicistas, componen sus textos según uno de estos modelos ya tr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148360" y="3573360"/>
            <a:ext cx="371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Verdana"/>
                <a:ea typeface="Arial"/>
              </a:rPr>
              <a:t>Las diferencias entre ellos a veces no son obje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5219640" y="4365720"/>
            <a:ext cx="3457800" cy="1618560"/>
          </a:xfrm>
          <a:prstGeom prst="rect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Varios modelos de estructura podrían ser aplicables a un mismo texto, siempre que se justifique razonad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  <p:sndAc>
      <p:stSnd>
        <p:snd r:embed="rId9" name="camera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3300"/>
                </a:solidFill>
                <a:latin typeface="Arial"/>
              </a:rPr>
              <a:t>Deductiv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1523880" y="2590920"/>
            <a:ext cx="6096240" cy="1523880"/>
          </a:xfrm>
          <a:prstGeom prst="bevel">
            <a:avLst>
              <a:gd name="adj" fmla="val 12500"/>
            </a:avLst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Verdana"/>
                <a:ea typeface="Arial"/>
              </a:rPr>
              <a:t>Idea princip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5257800" y="4267080"/>
            <a:ext cx="1447920" cy="1752840"/>
            <a:chOff x="5257800" y="4267080"/>
            <a:chExt cx="1447920" cy="1752840"/>
          </a:xfrm>
        </p:grpSpPr>
        <p:sp>
          <p:nvSpPr>
            <p:cNvPr id="122" name="AutoShape 5"/>
            <p:cNvSpPr/>
            <p:nvPr/>
          </p:nvSpPr>
          <p:spPr>
            <a:xfrm flipH="1">
              <a:off x="5257800" y="4267080"/>
              <a:ext cx="1447920" cy="1752840"/>
            </a:xfrm>
            <a:prstGeom prst="parallelogram">
              <a:avLst>
                <a:gd name="adj" fmla="val 25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6"/>
            <p:cNvSpPr/>
            <p:nvPr/>
          </p:nvSpPr>
          <p:spPr>
            <a:xfrm rot="15351600">
              <a:off x="5381280" y="4954680"/>
              <a:ext cx="112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6633"/>
                  </a:solidFill>
                  <a:latin typeface="Verdana"/>
                  <a:ea typeface="Arial"/>
                </a:rPr>
                <a:t>Caso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7"/>
          <p:cNvGrpSpPr/>
          <p:nvPr/>
        </p:nvGrpSpPr>
        <p:grpSpPr>
          <a:xfrm>
            <a:off x="6553080" y="4267080"/>
            <a:ext cx="1447920" cy="1752840"/>
            <a:chOff x="6553080" y="4267080"/>
            <a:chExt cx="1447920" cy="1752840"/>
          </a:xfrm>
        </p:grpSpPr>
        <p:sp>
          <p:nvSpPr>
            <p:cNvPr id="125" name="AutoShape 8"/>
            <p:cNvSpPr/>
            <p:nvPr/>
          </p:nvSpPr>
          <p:spPr>
            <a:xfrm flipH="1">
              <a:off x="6553080" y="4267080"/>
              <a:ext cx="1447920" cy="1752840"/>
            </a:xfrm>
            <a:prstGeom prst="parallelogram">
              <a:avLst>
                <a:gd name="adj" fmla="val 25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9"/>
            <p:cNvSpPr/>
            <p:nvPr/>
          </p:nvSpPr>
          <p:spPr>
            <a:xfrm rot="15351600">
              <a:off x="6676560" y="4954680"/>
              <a:ext cx="112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6633"/>
                  </a:solidFill>
                  <a:latin typeface="Verdana"/>
                  <a:ea typeface="Arial"/>
                </a:rPr>
                <a:t>Caso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0"/>
          <p:cNvGrpSpPr/>
          <p:nvPr/>
        </p:nvGrpSpPr>
        <p:grpSpPr>
          <a:xfrm>
            <a:off x="2438280" y="4267080"/>
            <a:ext cx="1447920" cy="1752840"/>
            <a:chOff x="2438280" y="4267080"/>
            <a:chExt cx="1447920" cy="1752840"/>
          </a:xfrm>
        </p:grpSpPr>
        <p:sp>
          <p:nvSpPr>
            <p:cNvPr id="128" name="AutoShape 11"/>
            <p:cNvSpPr/>
            <p:nvPr/>
          </p:nvSpPr>
          <p:spPr>
            <a:xfrm>
              <a:off x="2438280" y="4267080"/>
              <a:ext cx="1447920" cy="1752840"/>
            </a:xfrm>
            <a:prstGeom prst="parallelogram">
              <a:avLst>
                <a:gd name="adj" fmla="val 25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2"/>
            <p:cNvSpPr/>
            <p:nvPr/>
          </p:nvSpPr>
          <p:spPr>
            <a:xfrm rot="16954200">
              <a:off x="2561760" y="4955040"/>
              <a:ext cx="112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6633"/>
                  </a:solidFill>
                  <a:latin typeface="Verdana"/>
                  <a:ea typeface="Arial"/>
                </a:rPr>
                <a:t>Caso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13"/>
          <p:cNvGrpSpPr/>
          <p:nvPr/>
        </p:nvGrpSpPr>
        <p:grpSpPr>
          <a:xfrm>
            <a:off x="1143000" y="4267080"/>
            <a:ext cx="1447920" cy="1752840"/>
            <a:chOff x="1143000" y="4267080"/>
            <a:chExt cx="1447920" cy="1752840"/>
          </a:xfrm>
        </p:grpSpPr>
        <p:sp>
          <p:nvSpPr>
            <p:cNvPr id="131" name="AutoShape 14"/>
            <p:cNvSpPr/>
            <p:nvPr/>
          </p:nvSpPr>
          <p:spPr>
            <a:xfrm>
              <a:off x="1143000" y="4267080"/>
              <a:ext cx="1447920" cy="1752840"/>
            </a:xfrm>
            <a:prstGeom prst="parallelogram">
              <a:avLst>
                <a:gd name="adj" fmla="val 25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5"/>
            <p:cNvSpPr/>
            <p:nvPr/>
          </p:nvSpPr>
          <p:spPr>
            <a:xfrm rot="16954200">
              <a:off x="1265040" y="4955040"/>
              <a:ext cx="112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6633"/>
                  </a:solidFill>
                  <a:latin typeface="Verdana"/>
                  <a:ea typeface="Arial"/>
                </a:rPr>
                <a:t>Caso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16"/>
          <p:cNvGrpSpPr/>
          <p:nvPr/>
        </p:nvGrpSpPr>
        <p:grpSpPr>
          <a:xfrm>
            <a:off x="3733920" y="4266720"/>
            <a:ext cx="1676160" cy="1752840"/>
            <a:chOff x="3733920" y="4266720"/>
            <a:chExt cx="1676160" cy="1752840"/>
          </a:xfrm>
        </p:grpSpPr>
        <p:sp>
          <p:nvSpPr>
            <p:cNvPr id="134" name="AutoShape 17"/>
            <p:cNvSpPr/>
            <p:nvPr/>
          </p:nvSpPr>
          <p:spPr>
            <a:xfrm flipV="1">
              <a:off x="3733920" y="4266360"/>
              <a:ext cx="1676160" cy="175284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8"/>
            <p:cNvSpPr/>
            <p:nvPr/>
          </p:nvSpPr>
          <p:spPr>
            <a:xfrm rot="16200000">
              <a:off x="4009680" y="4953600"/>
              <a:ext cx="112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6633"/>
                  </a:solidFill>
                  <a:latin typeface="Verdana"/>
                  <a:ea typeface="Arial"/>
                </a:rPr>
                <a:t>Caso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  <p:sndAc>
      <p:stSnd>
        <p:snd r:embed="rId1" name="camera.wav"/>
      </p:stSnd>
    </p:sndAc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3300"/>
                </a:solidFill>
                <a:latin typeface="Arial"/>
              </a:rPr>
              <a:t>Inductiv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1981080" y="4572000"/>
            <a:ext cx="6096240" cy="1523880"/>
          </a:xfrm>
          <a:prstGeom prst="irregularSeal1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Verdana"/>
                <a:ea typeface="Arial"/>
              </a:rPr>
              <a:t>Idea princip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 rot="3325200">
            <a:off x="1447200" y="2514240"/>
            <a:ext cx="1905120" cy="2210040"/>
          </a:xfrm>
          <a:custGeom>
            <a:avLst/>
            <a:gdLst>
              <a:gd name="textAreaLeft" fmla="*/ 237960 w 1905120"/>
              <a:gd name="textAreaRight" fmla="*/ 1667160 w 1905120"/>
              <a:gd name="textAreaTop" fmla="*/ 552600 h 2210040"/>
              <a:gd name="textAreaBottom" fmla="*/ 165780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9900"/>
                </a:solidFill>
                <a:latin typeface="Verdana"/>
                <a:ea typeface="Arial"/>
              </a:rPr>
              <a:t>Ejemplo</a:t>
            </a:r>
            <a:br>
              <a:rPr sz="1800"/>
            </a:br>
            <a:r>
              <a:rPr b="1" lang="es-ES" sz="3200" spc="-1" strike="noStrike">
                <a:solidFill>
                  <a:srgbClr val="cc9900"/>
                </a:solidFill>
                <a:latin typeface="Verdana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 rot="5400000">
            <a:off x="3886200" y="1752480"/>
            <a:ext cx="1904760" cy="2209680"/>
          </a:xfrm>
          <a:custGeom>
            <a:avLst/>
            <a:gdLst>
              <a:gd name="textAreaLeft" fmla="*/ 237960 w 1904760"/>
              <a:gd name="textAreaRight" fmla="*/ 1666800 w 1904760"/>
              <a:gd name="textAreaTop" fmla="*/ 552240 h 2209680"/>
              <a:gd name="textAreaBottom" fmla="*/ 16574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7c80"/>
                </a:solidFill>
                <a:latin typeface="Verdana"/>
                <a:ea typeface="Arial"/>
              </a:rPr>
              <a:t>Ejemplo</a:t>
            </a:r>
            <a:br>
              <a:rPr sz="1800"/>
            </a:br>
            <a:r>
              <a:rPr b="1" lang="es-ES" sz="3200" spc="-1" strike="noStrike">
                <a:solidFill>
                  <a:srgbClr val="ff7c80"/>
                </a:solidFill>
                <a:latin typeface="Verdana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 flipH="1" rot="18274800">
            <a:off x="6323040" y="2514240"/>
            <a:ext cx="1905120" cy="2209680"/>
          </a:xfrm>
          <a:custGeom>
            <a:avLst/>
            <a:gdLst>
              <a:gd name="textAreaLeft" fmla="*/ 237960 w 1905120"/>
              <a:gd name="textAreaRight" fmla="*/ 1667160 w 1905120"/>
              <a:gd name="textAreaTop" fmla="*/ 552240 h 2209680"/>
              <a:gd name="textAreaBottom" fmla="*/ 16574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Verdana"/>
                <a:ea typeface="Arial"/>
              </a:rPr>
              <a:t>Ejemplo</a:t>
            </a:r>
            <a:br>
              <a:rPr sz="1800"/>
            </a:br>
            <a:r>
              <a:rPr b="1" lang="es-ES" sz="3200" spc="-1" strike="noStrike">
                <a:solidFill>
                  <a:srgbClr val="ff6600"/>
                </a:solidFill>
                <a:latin typeface="Verdana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1" name="camera.wav"/>
      </p:stSnd>
    </p:sndAc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3300"/>
                </a:solidFill>
                <a:latin typeface="Arial"/>
              </a:rPr>
              <a:t>Encuadrad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1187280" y="1125360"/>
            <a:ext cx="6629400" cy="4496040"/>
          </a:xfrm>
          <a:prstGeom prst="pie">
            <a:avLst/>
          </a:prstGeom>
          <a:solidFill>
            <a:srgbClr val="d8ec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092320" y="1484280"/>
            <a:ext cx="54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f5f5f"/>
                </a:solidFill>
                <a:latin typeface="Verdana"/>
                <a:ea typeface="Arial"/>
              </a:rPr>
              <a:t>Tema, ley, tesis, idea principal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851120" y="4653000"/>
            <a:ext cx="526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f5f5f"/>
                </a:solidFill>
                <a:latin typeface="Verdana"/>
                <a:ea typeface="Arial"/>
              </a:rPr>
              <a:t>Reelaboración del tema, la ley,</a:t>
            </a:r>
            <a:br>
              <a:rPr sz="2800"/>
            </a:br>
            <a:r>
              <a:rPr b="0" lang="es-ES" sz="2800" spc="-1" strike="noStrike">
                <a:solidFill>
                  <a:srgbClr val="5f5f5f"/>
                </a:solidFill>
                <a:latin typeface="Verdana"/>
                <a:ea typeface="Arial"/>
              </a:rPr>
              <a:t>la tesis o la idea prin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2484360" y="3860640"/>
            <a:ext cx="3942000" cy="50976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b812f"/>
                </a:solidFill>
                <a:latin typeface="Verdana"/>
                <a:ea typeface="Arial"/>
              </a:rPr>
              <a:t>Casos concr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2484360" y="2852640"/>
            <a:ext cx="3942000" cy="50976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5050"/>
                </a:solidFill>
                <a:latin typeface="Verdana"/>
                <a:ea typeface="Arial"/>
              </a:rPr>
              <a:t>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2484360" y="2349360"/>
            <a:ext cx="3942000" cy="5097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ffcc"/>
                </a:solidFill>
                <a:latin typeface="Verdana"/>
                <a:ea typeface="Arial"/>
              </a:rPr>
              <a:t>Ejemp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2484360" y="3357720"/>
            <a:ext cx="3942000" cy="5094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Verdana"/>
                <a:ea typeface="Arial"/>
              </a:rPr>
              <a:t>Hech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  <p:sndAc>
      <p:stSnd>
        <p:snd r:embed="rId1" name="camera.wav"/>
      </p:stSnd>
    </p:sndAc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3300"/>
                </a:solidFill>
                <a:latin typeface="Arial"/>
              </a:rPr>
              <a:t>Un ejemplo de estructura de un </a:t>
            </a:r>
            <a:r>
              <a:rPr b="0" lang="es-ES" sz="38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text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0000"/>
                </a:solidFill>
                <a:latin typeface="Arial"/>
              </a:rPr>
              <a:t>I. </a:t>
            </a: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Presentación del problema </a:t>
            </a: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(párrafo 1º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300" spc="-1" strike="noStrike">
                <a:solidFill>
                  <a:srgbClr val="ff0000"/>
                </a:solidFill>
                <a:latin typeface="Arial"/>
              </a:rPr>
              <a:t>I.1.</a:t>
            </a: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Efectos negativos del ruido para la salud (sordera, cefalea, irritabilidad…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300" spc="-1" strike="noStrike">
                <a:solidFill>
                  <a:srgbClr val="ff0000"/>
                </a:solidFill>
                <a:latin typeface="Arial"/>
              </a:rPr>
              <a:t>I.2.</a:t>
            </a: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Grado de contaminación acústica en Españ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300" spc="-1" strike="noStrike">
                <a:solidFill>
                  <a:srgbClr val="ff0000"/>
                </a:solidFill>
                <a:latin typeface="Arial"/>
              </a:rPr>
              <a:t>I.3.</a:t>
            </a: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Noticia que origina el comentario sobre el ruido: sentencia del Tribunal constitucional qu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desestima el amparo solicitado por el propietario de un pub de Gijón condenado po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molestar a sus vecinos con el ruido a altas hora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0000"/>
                </a:solidFill>
                <a:latin typeface="Arial"/>
              </a:rPr>
              <a:t>II.</a:t>
            </a: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Solución: nacimiento de la Ley del Ruido  </a:t>
            </a: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(párrafo 2º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300" spc="-1" strike="noStrike">
                <a:solidFill>
                  <a:srgbClr val="ff0000"/>
                </a:solidFill>
                <a:latin typeface="Arial"/>
              </a:rPr>
              <a:t>II.1.</a:t>
            </a: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Causa: retraso legislativo sobre la materia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300" spc="-1" strike="noStrike">
                <a:solidFill>
                  <a:srgbClr val="ff0000"/>
                </a:solidFill>
                <a:latin typeface="Arial"/>
              </a:rPr>
              <a:t>II.2.</a:t>
            </a: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Características de la Ley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300" spc="-1" strike="noStrike">
                <a:solidFill>
                  <a:srgbClr val="ff0000"/>
                </a:solidFill>
                <a:latin typeface="Arial"/>
              </a:rPr>
              <a:t>II.3.</a:t>
            </a: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Nace en 200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300" spc="-1" strike="noStrike">
                <a:solidFill>
                  <a:srgbClr val="ff0000"/>
                </a:solidFill>
                <a:latin typeface="Arial"/>
              </a:rPr>
              <a:t>II.4.</a:t>
            </a: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Obliga a elaborar mapas acústic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0000"/>
                </a:solidFill>
                <a:latin typeface="Arial"/>
              </a:rPr>
              <a:t>III.</a:t>
            </a: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Necesidad de aplicar la ley (tesis): </a:t>
            </a: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(párrafo 3º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300" spc="-1" strike="noStrike">
                <a:solidFill>
                  <a:srgbClr val="ff0000"/>
                </a:solidFill>
                <a:latin typeface="Arial"/>
              </a:rPr>
              <a:t>III.1.</a:t>
            </a: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Porque no se está aplicando en la actualidad: siguen existiendo obras ruidosas, camiones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pirotecnia… (argumento de hecho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300" spc="-1" strike="noStrike">
                <a:solidFill>
                  <a:srgbClr val="ff0000"/>
                </a:solidFill>
                <a:latin typeface="Arial"/>
              </a:rPr>
              <a:t>III.2.</a:t>
            </a: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Por los efectos positivos de su aplicación: la inteligencia humana es inversament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proporcional a la capacidad para soportar el ruido (Shopenhauer,  argumento d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autorida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3300"/>
                </a:solidFill>
                <a:latin typeface="Arial"/>
              </a:rPr>
              <a:t>Para completar la pregunta de la organización de las ideas del texto comentamos el tipo de estructura: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2759040"/>
            <a:ext cx="80136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mo se observa, se trata de un texto que presenta un tipo de estructura claramente inductiva, pues comienza con los datos concretos y termina con la enunciación de la tesis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4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4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4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4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47280" y="2491920"/>
            <a:ext cx="59770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cc"/>
                </a:solidFill>
                <a:latin typeface="Arial"/>
              </a:rPr>
              <a:t>Segunda pregunta del examen de Selectiv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4"/>
          <p:cNvSpPr txBox="1"/>
          <p:nvPr/>
        </p:nvSpPr>
        <p:spPr>
          <a:xfrm>
            <a:off x="1979640" y="1413000"/>
            <a:ext cx="52578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ema y resumen</a:t>
            </a:r>
            <a:endParaRPr b="0" lang="en-US" sz="2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  <p:sndAc>
      <p:stSnd>
        <p:snd r:embed="rId1" name="camera.wav"/>
      </p:stSnd>
    </p:sndAc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47280" y="2491920"/>
            <a:ext cx="59770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3300"/>
                </a:solidFill>
                <a:latin typeface="Arial"/>
              </a:rPr>
              <a:t>0, 5 pun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95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cc"/>
                </a:solidFill>
                <a:latin typeface="Arial"/>
              </a:rPr>
              <a:t>Primera parte de la segunda pregunta del examen de Selectiv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4"/>
          <p:cNvSpPr txBox="1"/>
          <p:nvPr/>
        </p:nvSpPr>
        <p:spPr>
          <a:xfrm>
            <a:off x="1979640" y="1413000"/>
            <a:ext cx="52578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ema</a:t>
            </a:r>
            <a:endParaRPr b="0" lang="en-US" sz="2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  <p:sndAc>
      <p:stSnd>
        <p:snd r:embed="rId1" name="camera.wav"/>
      </p:stSnd>
    </p:sndAc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175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99"/>
                </a:solidFill>
                <a:latin typeface="Arial"/>
              </a:rPr>
              <a:t>El tema es el resumen del resum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5568840" y="2828880"/>
            <a:ext cx="2140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33"/>
                </a:solidFill>
                <a:latin typeface="Berlin Sans FB Demi"/>
                <a:ea typeface="Arial"/>
              </a:rPr>
              <a:t>Mens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33"/>
                </a:solidFill>
                <a:latin typeface="Berlin Sans FB Demi"/>
                <a:ea typeface="Arial"/>
              </a:rPr>
              <a:t>Intención</a:t>
            </a:r>
            <a:br>
              <a:rPr sz="3200"/>
            </a:br>
            <a:r>
              <a:rPr b="1" lang="es-ES" sz="3200" spc="-1" strike="noStrike">
                <a:solidFill>
                  <a:srgbClr val="006633"/>
                </a:solidFill>
                <a:latin typeface="Berlin Sans FB Demi"/>
                <a:ea typeface="Arial"/>
              </a:rPr>
              <a:t>del au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4991040" y="2039760"/>
            <a:ext cx="3238560" cy="3238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10860004"/>
              </a:avLst>
            </a:prstTxWarp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0">
                  <a:noFill/>
                </a:ln>
                <a:solidFill>
                  <a:srgbClr val="000080"/>
                </a:solidFill>
                <a:latin typeface="Arial Black"/>
              </a:rPr>
              <a:t>Resumen del resumen</a:t>
            </a:r>
            <a:endParaRPr b="0" lang="en-US" sz="2200" spc="1" strike="noStrike">
              <a:ln w="0">
                <a:noFill/>
              </a:ln>
              <a:solidFill>
                <a:srgbClr val="000080"/>
              </a:solidFill>
              <a:latin typeface="Arial Black"/>
              <a:ea typeface="Arial Black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210960" y="5821200"/>
            <a:ext cx="8744040" cy="459720"/>
          </a:xfrm>
          <a:prstGeom prst="rect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Arial"/>
              </a:rPr>
              <a:t>Diez o quince palabras deberían ser sufic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6"/>
          <p:cNvGrpSpPr/>
          <p:nvPr/>
        </p:nvGrpSpPr>
        <p:grpSpPr>
          <a:xfrm>
            <a:off x="1808280" y="1941480"/>
            <a:ext cx="1117440" cy="1479240"/>
            <a:chOff x="1808280" y="1941480"/>
            <a:chExt cx="1117440" cy="1479240"/>
          </a:xfrm>
        </p:grpSpPr>
        <p:sp>
          <p:nvSpPr>
            <p:cNvPr id="164" name="AutoShape 7"/>
            <p:cNvSpPr/>
            <p:nvPr/>
          </p:nvSpPr>
          <p:spPr>
            <a:xfrm>
              <a:off x="1808280" y="1941480"/>
              <a:ext cx="1117440" cy="147924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Group 8"/>
            <p:cNvGrpSpPr/>
            <p:nvPr/>
          </p:nvGrpSpPr>
          <p:grpSpPr>
            <a:xfrm>
              <a:off x="2028600" y="2073240"/>
              <a:ext cx="668160" cy="1202760"/>
              <a:chOff x="2028600" y="2073240"/>
              <a:chExt cx="668160" cy="1202760"/>
            </a:xfrm>
          </p:grpSpPr>
          <p:grpSp>
            <p:nvGrpSpPr>
              <p:cNvPr id="166" name="Group 9"/>
              <p:cNvGrpSpPr/>
              <p:nvPr/>
            </p:nvGrpSpPr>
            <p:grpSpPr>
              <a:xfrm>
                <a:off x="2028600" y="2175480"/>
                <a:ext cx="668160" cy="296640"/>
                <a:chOff x="2028600" y="2175480"/>
                <a:chExt cx="668160" cy="296640"/>
              </a:xfrm>
            </p:grpSpPr>
            <p:sp>
              <p:nvSpPr>
                <p:cNvPr id="167" name="Line 10"/>
                <p:cNvSpPr/>
                <p:nvPr/>
              </p:nvSpPr>
              <p:spPr>
                <a:xfrm>
                  <a:off x="2130120" y="2175480"/>
                  <a:ext cx="566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Line 11"/>
                <p:cNvSpPr/>
                <p:nvPr/>
              </p:nvSpPr>
              <p:spPr>
                <a:xfrm>
                  <a:off x="2028600" y="237240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Line 12"/>
                <p:cNvSpPr/>
                <p:nvPr/>
              </p:nvSpPr>
              <p:spPr>
                <a:xfrm>
                  <a:off x="2028600" y="222408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Line 13"/>
                <p:cNvSpPr/>
                <p:nvPr/>
              </p:nvSpPr>
              <p:spPr>
                <a:xfrm>
                  <a:off x="2028600" y="227304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Line 14"/>
                <p:cNvSpPr/>
                <p:nvPr/>
              </p:nvSpPr>
              <p:spPr>
                <a:xfrm>
                  <a:off x="2028600" y="242136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Line 15"/>
                <p:cNvSpPr/>
                <p:nvPr/>
              </p:nvSpPr>
              <p:spPr>
                <a:xfrm>
                  <a:off x="2028600" y="232344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Line 16"/>
                <p:cNvSpPr/>
                <p:nvPr/>
              </p:nvSpPr>
              <p:spPr>
                <a:xfrm>
                  <a:off x="2028600" y="2472120"/>
                  <a:ext cx="522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Group 17"/>
              <p:cNvGrpSpPr/>
              <p:nvPr/>
            </p:nvGrpSpPr>
            <p:grpSpPr>
              <a:xfrm>
                <a:off x="2028600" y="2602440"/>
                <a:ext cx="668160" cy="246240"/>
                <a:chOff x="2028600" y="2602440"/>
                <a:chExt cx="668160" cy="246240"/>
              </a:xfrm>
            </p:grpSpPr>
            <p:sp>
              <p:nvSpPr>
                <p:cNvPr id="175" name="Line 18"/>
                <p:cNvSpPr/>
                <p:nvPr/>
              </p:nvSpPr>
              <p:spPr>
                <a:xfrm>
                  <a:off x="2130120" y="2602440"/>
                  <a:ext cx="566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Line 19"/>
                <p:cNvSpPr/>
                <p:nvPr/>
              </p:nvSpPr>
              <p:spPr>
                <a:xfrm>
                  <a:off x="2028600" y="265104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20"/>
                <p:cNvSpPr/>
                <p:nvPr/>
              </p:nvSpPr>
              <p:spPr>
                <a:xfrm>
                  <a:off x="2028600" y="270000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21"/>
                <p:cNvSpPr/>
                <p:nvPr/>
              </p:nvSpPr>
              <p:spPr>
                <a:xfrm>
                  <a:off x="2028600" y="279792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Line 22"/>
                <p:cNvSpPr/>
                <p:nvPr/>
              </p:nvSpPr>
              <p:spPr>
                <a:xfrm>
                  <a:off x="2028600" y="275040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Line 23"/>
                <p:cNvSpPr/>
                <p:nvPr/>
              </p:nvSpPr>
              <p:spPr>
                <a:xfrm>
                  <a:off x="2028600" y="284868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Group 24"/>
              <p:cNvGrpSpPr/>
              <p:nvPr/>
            </p:nvGrpSpPr>
            <p:grpSpPr>
              <a:xfrm>
                <a:off x="2028600" y="2979360"/>
                <a:ext cx="668160" cy="296640"/>
                <a:chOff x="2028600" y="2979360"/>
                <a:chExt cx="668160" cy="296640"/>
              </a:xfrm>
            </p:grpSpPr>
            <p:sp>
              <p:nvSpPr>
                <p:cNvPr id="182" name="Line 25"/>
                <p:cNvSpPr/>
                <p:nvPr/>
              </p:nvSpPr>
              <p:spPr>
                <a:xfrm>
                  <a:off x="2130120" y="2979360"/>
                  <a:ext cx="566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Line 26"/>
                <p:cNvSpPr/>
                <p:nvPr/>
              </p:nvSpPr>
              <p:spPr>
                <a:xfrm>
                  <a:off x="2028600" y="317628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Line 27"/>
                <p:cNvSpPr/>
                <p:nvPr/>
              </p:nvSpPr>
              <p:spPr>
                <a:xfrm>
                  <a:off x="2028600" y="302796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Line 28"/>
                <p:cNvSpPr/>
                <p:nvPr/>
              </p:nvSpPr>
              <p:spPr>
                <a:xfrm>
                  <a:off x="2028600" y="307692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Line 29"/>
                <p:cNvSpPr/>
                <p:nvPr/>
              </p:nvSpPr>
              <p:spPr>
                <a:xfrm>
                  <a:off x="2028600" y="322524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Line 30"/>
                <p:cNvSpPr/>
                <p:nvPr/>
              </p:nvSpPr>
              <p:spPr>
                <a:xfrm>
                  <a:off x="2028600" y="3127320"/>
                  <a:ext cx="66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31"/>
                <p:cNvSpPr/>
                <p:nvPr/>
              </p:nvSpPr>
              <p:spPr>
                <a:xfrm>
                  <a:off x="2028600" y="3276000"/>
                  <a:ext cx="522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Line 32"/>
              <p:cNvSpPr/>
              <p:nvPr/>
            </p:nvSpPr>
            <p:spPr>
              <a:xfrm>
                <a:off x="2028600" y="207324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33"/>
          <p:cNvGrpSpPr/>
          <p:nvPr/>
        </p:nvGrpSpPr>
        <p:grpSpPr>
          <a:xfrm>
            <a:off x="2257560" y="2766960"/>
            <a:ext cx="1117440" cy="1479600"/>
            <a:chOff x="2257560" y="2766960"/>
            <a:chExt cx="1117440" cy="1479600"/>
          </a:xfrm>
        </p:grpSpPr>
        <p:sp>
          <p:nvSpPr>
            <p:cNvPr id="191" name="AutoShape 34"/>
            <p:cNvSpPr/>
            <p:nvPr/>
          </p:nvSpPr>
          <p:spPr>
            <a:xfrm>
              <a:off x="2257560" y="2766960"/>
              <a:ext cx="1117440" cy="147960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35"/>
            <p:cNvGrpSpPr/>
            <p:nvPr/>
          </p:nvGrpSpPr>
          <p:grpSpPr>
            <a:xfrm>
              <a:off x="2478240" y="3000240"/>
              <a:ext cx="668160" cy="297000"/>
              <a:chOff x="2478240" y="3000240"/>
              <a:chExt cx="668160" cy="297000"/>
            </a:xfrm>
          </p:grpSpPr>
          <p:sp>
            <p:nvSpPr>
              <p:cNvPr id="193" name="Line 36"/>
              <p:cNvSpPr/>
              <p:nvPr/>
            </p:nvSpPr>
            <p:spPr>
              <a:xfrm>
                <a:off x="2579760" y="3000240"/>
                <a:ext cx="56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37"/>
              <p:cNvSpPr/>
              <p:nvPr/>
            </p:nvSpPr>
            <p:spPr>
              <a:xfrm>
                <a:off x="2478240" y="3197520"/>
                <a:ext cx="66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38"/>
              <p:cNvSpPr/>
              <p:nvPr/>
            </p:nvSpPr>
            <p:spPr>
              <a:xfrm>
                <a:off x="2478240" y="3048840"/>
                <a:ext cx="66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39"/>
              <p:cNvSpPr/>
              <p:nvPr/>
            </p:nvSpPr>
            <p:spPr>
              <a:xfrm>
                <a:off x="2478240" y="3097800"/>
                <a:ext cx="66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40"/>
              <p:cNvSpPr/>
              <p:nvPr/>
            </p:nvSpPr>
            <p:spPr>
              <a:xfrm>
                <a:off x="2478240" y="3246480"/>
                <a:ext cx="66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41"/>
              <p:cNvSpPr/>
              <p:nvPr/>
            </p:nvSpPr>
            <p:spPr>
              <a:xfrm>
                <a:off x="2478240" y="3148560"/>
                <a:ext cx="66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42"/>
              <p:cNvSpPr/>
              <p:nvPr/>
            </p:nvSpPr>
            <p:spPr>
              <a:xfrm>
                <a:off x="2478240" y="3297240"/>
                <a:ext cx="52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Line 43"/>
            <p:cNvSpPr/>
            <p:nvPr/>
          </p:nvSpPr>
          <p:spPr>
            <a:xfrm>
              <a:off x="2478240" y="28987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44"/>
          <p:cNvGrpSpPr/>
          <p:nvPr/>
        </p:nvGrpSpPr>
        <p:grpSpPr>
          <a:xfrm>
            <a:off x="2705040" y="3592440"/>
            <a:ext cx="1117800" cy="1479600"/>
            <a:chOff x="2705040" y="3592440"/>
            <a:chExt cx="1117800" cy="1479600"/>
          </a:xfrm>
        </p:grpSpPr>
        <p:sp>
          <p:nvSpPr>
            <p:cNvPr id="202" name="AutoShape 45"/>
            <p:cNvSpPr/>
            <p:nvPr/>
          </p:nvSpPr>
          <p:spPr>
            <a:xfrm>
              <a:off x="2705040" y="3592440"/>
              <a:ext cx="1117800" cy="147960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46"/>
            <p:cNvSpPr/>
            <p:nvPr/>
          </p:nvSpPr>
          <p:spPr>
            <a:xfrm>
              <a:off x="3027240" y="3825720"/>
              <a:ext cx="56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47"/>
            <p:cNvSpPr/>
            <p:nvPr/>
          </p:nvSpPr>
          <p:spPr>
            <a:xfrm>
              <a:off x="2925720" y="3885840"/>
              <a:ext cx="66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48"/>
            <p:cNvSpPr/>
            <p:nvPr/>
          </p:nvSpPr>
          <p:spPr>
            <a:xfrm>
              <a:off x="2925720" y="37242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49"/>
          <p:cNvSpPr/>
          <p:nvPr/>
        </p:nvSpPr>
        <p:spPr>
          <a:xfrm>
            <a:off x="662040" y="3279600"/>
            <a:ext cx="1245960" cy="368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Verdana"/>
                <a:ea typeface="Arial"/>
              </a:rPr>
              <a:t>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0"/>
          <p:cNvSpPr/>
          <p:nvPr/>
        </p:nvSpPr>
        <p:spPr>
          <a:xfrm>
            <a:off x="1137240" y="4114800"/>
            <a:ext cx="1188000" cy="368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Verdana"/>
                <a:ea typeface="Arial"/>
              </a:rPr>
              <a:t>Resu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1"/>
          <p:cNvSpPr/>
          <p:nvPr/>
        </p:nvSpPr>
        <p:spPr>
          <a:xfrm>
            <a:off x="1576440" y="4948200"/>
            <a:ext cx="1239840" cy="368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Verdana"/>
                <a:ea typeface="Arial"/>
              </a:rPr>
              <a:t>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  <p:sndAc>
      <p:stSnd>
        <p:snd r:embed="rId1" name="camera.wav"/>
      </p:stSnd>
    </p:sndAc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92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4" dur="192" fill="hold"/>
                                        <p:tgtEl>
                                          <p:spTgt spid="2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6" dur="192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8" dur="192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92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9" dur="192" fill="hold"/>
                                        <p:tgtEl>
                                          <p:spTgt spid="2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1" dur="192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3" dur="192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92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4" dur="192" fill="hold"/>
                                        <p:tgtEl>
                                          <p:spTgt spid="2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6" dur="192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8" dur="192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412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8500"/>
                            </p:stCondLst>
                            <p:childTnLst>
                              <p:par>
                                <p:cTn id="4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5" dur="2000" fill="hold"/>
                                        <p:tgtEl>
                                          <p:spTgt spid="1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99"/>
                </a:solidFill>
                <a:latin typeface="Arial"/>
              </a:rPr>
              <a:t>El tema es distinto del asun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SU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dica de qué trata un tex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lang="es-ES" sz="2200" spc="-1" strike="noStrike">
                <a:solidFill>
                  <a:srgbClr val="ff3300"/>
                </a:solidFill>
                <a:latin typeface="Arial"/>
              </a:rPr>
              <a:t>La adolescenci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E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dica de qué trata un texto, pero incorporando además la postura o tesis del autor a propósito del asu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lang="es-ES" sz="2200" spc="-1" strike="noStrike">
                <a:solidFill>
                  <a:srgbClr val="ff3300"/>
                </a:solidFill>
                <a:latin typeface="Arial"/>
              </a:rPr>
              <a:t>Dificultades de relación generacional en la adolescenci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2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7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s-ES" sz="3800" spc="-1" strike="noStrike">
                <a:solidFill>
                  <a:srgbClr val="ff3300"/>
                </a:solidFill>
                <a:latin typeface="Arial"/>
              </a:rPr>
              <a:t>Ideas generales sobre el comentario crítico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cc"/>
                </a:solidFill>
                <a:latin typeface="Arial"/>
              </a:rPr>
              <a:t>El comentario crítico debe servir para </a:t>
            </a:r>
            <a:r>
              <a:rPr b="0" lang="es-ES" sz="3000" spc="-1" strike="noStrike">
                <a:solidFill>
                  <a:srgbClr val="ff3300"/>
                </a:solidFill>
                <a:latin typeface="Arial"/>
              </a:rPr>
              <a:t>demostrar la madurez y la capacidad de reflexión</a:t>
            </a:r>
            <a:r>
              <a:rPr b="0" lang="es-ES" sz="3000" spc="-1" strike="noStrike">
                <a:solidFill>
                  <a:srgbClr val="0000cc"/>
                </a:solidFill>
                <a:latin typeface="Arial"/>
              </a:rPr>
              <a:t> del alumn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cc"/>
                </a:solidFill>
                <a:latin typeface="Arial"/>
              </a:rPr>
              <a:t>Debe estar escrito con </a:t>
            </a:r>
            <a:r>
              <a:rPr b="0" lang="es-ES" sz="3000" spc="-1" strike="noStrike">
                <a:solidFill>
                  <a:srgbClr val="ff3300"/>
                </a:solidFill>
                <a:latin typeface="Arial"/>
              </a:rPr>
              <a:t>corrección ortográfica, léxica y gramatical</a:t>
            </a:r>
            <a:r>
              <a:rPr b="0" lang="es-ES" sz="30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cc"/>
                </a:solidFill>
                <a:latin typeface="Arial"/>
              </a:rPr>
              <a:t>Debemos poner especial atención en su realización, pues las preguntas referentes al texto suman en total </a:t>
            </a:r>
            <a:r>
              <a:rPr b="0" lang="es-ES" sz="3000" spc="-1" strike="noStrike">
                <a:solidFill>
                  <a:srgbClr val="ff3300"/>
                </a:solidFill>
                <a:latin typeface="Arial"/>
              </a:rPr>
              <a:t>6 puntos</a:t>
            </a:r>
            <a:r>
              <a:rPr b="0" lang="es-ES" sz="30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99"/>
                </a:solidFill>
                <a:latin typeface="Arial"/>
              </a:rPr>
              <a:t>¿Cómo debe ser el tema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3300"/>
                </a:solidFill>
                <a:latin typeface="Arial"/>
              </a:rPr>
              <a:t>Breve: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una sola frase que recoja la idea fundamental y la intención del au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3300"/>
                </a:solidFill>
                <a:latin typeface="Arial"/>
              </a:rPr>
              <a:t>Preci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3300"/>
                </a:solidFill>
                <a:latin typeface="Arial"/>
              </a:rPr>
              <a:t>General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: se recomienda una frase nominal cuyo núcleo sea un sustantivo abstracto precisado por complemen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99"/>
                </a:solidFill>
                <a:latin typeface="Arial"/>
              </a:rPr>
              <a:t>Ejemplos de tem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desmotivación por el estudio en la juventu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necesidad de una ley contra el ru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crisis económica de la actual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l efecto de la droga en la juventu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importancia de los valores cívico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8" descr="ruid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52960" y="2141640"/>
            <a:ext cx="1428840" cy="1104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4" descr="inversiones1"/>
          <p:cNvPicPr/>
          <p:nvPr/>
        </p:nvPicPr>
        <p:blipFill>
          <a:blip r:embed="rId3"/>
          <a:stretch/>
        </p:blipFill>
        <p:spPr>
          <a:xfrm>
            <a:off x="6156360" y="4149720"/>
            <a:ext cx="1428840" cy="952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7" descr="sosemergencias_solidarios-y-cooperantes1"/>
          <p:cNvPicPr/>
          <p:nvPr/>
        </p:nvPicPr>
        <p:blipFill>
          <a:blip r:embed="rId4"/>
          <a:stretch/>
        </p:blipFill>
        <p:spPr>
          <a:xfrm>
            <a:off x="7380360" y="83664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0" descr="aburrida"/>
          <p:cNvPicPr/>
          <p:nvPr/>
        </p:nvPicPr>
        <p:blipFill>
          <a:blip r:embed="rId5"/>
          <a:stretch/>
        </p:blipFill>
        <p:spPr>
          <a:xfrm>
            <a:off x="4500720" y="4365720"/>
            <a:ext cx="120780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76000" y="2924280"/>
            <a:ext cx="597708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3300"/>
                </a:solidFill>
                <a:latin typeface="Arial"/>
              </a:rPr>
              <a:t>1 pu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cc"/>
                </a:solidFill>
                <a:latin typeface="Arial"/>
              </a:rPr>
              <a:t>Segunda parte de la segunda pregunta del examen de Selectiv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WordArt 4"/>
          <p:cNvSpPr txBox="1"/>
          <p:nvPr/>
        </p:nvSpPr>
        <p:spPr>
          <a:xfrm>
            <a:off x="1979640" y="1413000"/>
            <a:ext cx="52578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Resumen</a:t>
            </a:r>
            <a:endParaRPr b="0" lang="en-US" sz="2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  <p:sndAc>
      <p:stSnd>
        <p:snd r:embed="rId1" name="camera.wav"/>
      </p:stSnd>
    </p:sndAc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95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cc"/>
                </a:solidFill>
                <a:latin typeface="Arial"/>
              </a:rPr>
              <a:t>¿Qué e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66"/>
                </a:solidFill>
                <a:latin typeface="Arial"/>
              </a:rPr>
              <a:t>El resumen es la reformulación sintética del conteni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ffff"/>
                </a:solidFill>
                <a:latin typeface="Arial"/>
              </a:rPr>
              <a:t>¿Cómo debe ser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66"/>
                </a:solidFill>
                <a:latin typeface="Arial"/>
              </a:rPr>
              <a:t>Breve (aproximadamente un 20% del texto complet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66"/>
                </a:solidFill>
                <a:latin typeface="Arial"/>
              </a:rPr>
              <a:t>Solo con ideas generales (prescindir de las particularidad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66"/>
                </a:solidFill>
                <a:latin typeface="Arial"/>
              </a:rPr>
              <a:t>Ordenado: debe seguir el orden de las ideas del 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66"/>
                </a:solidFill>
                <a:latin typeface="Arial"/>
              </a:rPr>
              <a:t>Debe presentar el mismo estilo del autor y su misma forma de discurso (exposición, narración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66"/>
                </a:solidFill>
                <a:latin typeface="Arial"/>
              </a:rPr>
              <a:t>No copiar pasajes literales (redacción origin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66"/>
                </a:solidFill>
                <a:latin typeface="Arial"/>
              </a:rPr>
              <a:t>A ser posible, en un solo párraf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cc"/>
                </a:solidFill>
                <a:latin typeface="Arial"/>
              </a:rPr>
              <a:t>¿Resumen por párrafo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1523880" y="4907520"/>
            <a:ext cx="6916680" cy="10087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Pero pueden utilizarse varios párrafos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 si la complejidad conceptual o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estructural del texto original así lo exigen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4"/>
          <p:cNvGrpSpPr/>
          <p:nvPr/>
        </p:nvGrpSpPr>
        <p:grpSpPr>
          <a:xfrm>
            <a:off x="1522440" y="1971720"/>
            <a:ext cx="1785960" cy="2454120"/>
            <a:chOff x="1522440" y="1971720"/>
            <a:chExt cx="1785960" cy="2454120"/>
          </a:xfrm>
        </p:grpSpPr>
        <p:sp>
          <p:nvSpPr>
            <p:cNvPr id="230" name="AutoShape 5"/>
            <p:cNvSpPr/>
            <p:nvPr/>
          </p:nvSpPr>
          <p:spPr>
            <a:xfrm>
              <a:off x="1522440" y="1971720"/>
              <a:ext cx="1785960" cy="2454120"/>
            </a:xfrm>
            <a:prstGeom prst="foldedCorner">
              <a:avLst>
                <a:gd name="adj" fmla="val 12500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Group 6"/>
            <p:cNvGrpSpPr/>
            <p:nvPr/>
          </p:nvGrpSpPr>
          <p:grpSpPr>
            <a:xfrm>
              <a:off x="1675080" y="2333520"/>
              <a:ext cx="1485000" cy="1842480"/>
              <a:chOff x="1675080" y="2333520"/>
              <a:chExt cx="1485000" cy="1842480"/>
            </a:xfrm>
          </p:grpSpPr>
          <p:grpSp>
            <p:nvGrpSpPr>
              <p:cNvPr id="232" name="Group 7"/>
              <p:cNvGrpSpPr/>
              <p:nvPr/>
            </p:nvGrpSpPr>
            <p:grpSpPr>
              <a:xfrm>
                <a:off x="1675080" y="2333520"/>
                <a:ext cx="1485000" cy="719280"/>
                <a:chOff x="1675080" y="2333520"/>
                <a:chExt cx="1485000" cy="719280"/>
              </a:xfrm>
            </p:grpSpPr>
            <p:sp>
              <p:nvSpPr>
                <p:cNvPr id="233" name="Line 8"/>
                <p:cNvSpPr/>
                <p:nvPr/>
              </p:nvSpPr>
              <p:spPr>
                <a:xfrm>
                  <a:off x="1675080" y="3052800"/>
                  <a:ext cx="989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9"/>
                <p:cNvSpPr/>
                <p:nvPr/>
              </p:nvSpPr>
              <p:spPr>
                <a:xfrm>
                  <a:off x="1675080" y="239832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10"/>
                <p:cNvSpPr/>
                <p:nvPr/>
              </p:nvSpPr>
              <p:spPr>
                <a:xfrm>
                  <a:off x="1675080" y="246420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Line 11"/>
                <p:cNvSpPr/>
                <p:nvPr/>
              </p:nvSpPr>
              <p:spPr>
                <a:xfrm>
                  <a:off x="1675080" y="252900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Line 12"/>
                <p:cNvSpPr/>
                <p:nvPr/>
              </p:nvSpPr>
              <p:spPr>
                <a:xfrm>
                  <a:off x="1873080" y="2333520"/>
                  <a:ext cx="1287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Line 13"/>
                <p:cNvSpPr/>
                <p:nvPr/>
              </p:nvSpPr>
              <p:spPr>
                <a:xfrm>
                  <a:off x="1675080" y="259488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Line 14"/>
                <p:cNvSpPr/>
                <p:nvPr/>
              </p:nvSpPr>
              <p:spPr>
                <a:xfrm>
                  <a:off x="1675080" y="265932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Line 15"/>
                <p:cNvSpPr/>
                <p:nvPr/>
              </p:nvSpPr>
              <p:spPr>
                <a:xfrm>
                  <a:off x="1675080" y="272520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Line 16"/>
                <p:cNvSpPr/>
                <p:nvPr/>
              </p:nvSpPr>
              <p:spPr>
                <a:xfrm>
                  <a:off x="1675080" y="279000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7"/>
                <p:cNvSpPr/>
                <p:nvPr/>
              </p:nvSpPr>
              <p:spPr>
                <a:xfrm>
                  <a:off x="1675080" y="285588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8"/>
                <p:cNvSpPr/>
                <p:nvPr/>
              </p:nvSpPr>
              <p:spPr>
                <a:xfrm>
                  <a:off x="1675080" y="292068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9"/>
                <p:cNvSpPr/>
                <p:nvPr/>
              </p:nvSpPr>
              <p:spPr>
                <a:xfrm>
                  <a:off x="1675080" y="298692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Group 20"/>
              <p:cNvGrpSpPr/>
              <p:nvPr/>
            </p:nvGrpSpPr>
            <p:grpSpPr>
              <a:xfrm>
                <a:off x="1675080" y="3718440"/>
                <a:ext cx="1485000" cy="457560"/>
                <a:chOff x="1675080" y="3718440"/>
                <a:chExt cx="1485000" cy="457560"/>
              </a:xfrm>
            </p:grpSpPr>
            <p:sp>
              <p:nvSpPr>
                <p:cNvPr id="246" name="Line 21"/>
                <p:cNvSpPr/>
                <p:nvPr/>
              </p:nvSpPr>
              <p:spPr>
                <a:xfrm>
                  <a:off x="1675080" y="378288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Line 22"/>
                <p:cNvSpPr/>
                <p:nvPr/>
              </p:nvSpPr>
              <p:spPr>
                <a:xfrm>
                  <a:off x="1675080" y="384912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Line 23"/>
                <p:cNvSpPr/>
                <p:nvPr/>
              </p:nvSpPr>
              <p:spPr>
                <a:xfrm>
                  <a:off x="1675080" y="391392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Line 24"/>
                <p:cNvSpPr/>
                <p:nvPr/>
              </p:nvSpPr>
              <p:spPr>
                <a:xfrm>
                  <a:off x="1872720" y="3718440"/>
                  <a:ext cx="1287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Line 25"/>
                <p:cNvSpPr/>
                <p:nvPr/>
              </p:nvSpPr>
              <p:spPr>
                <a:xfrm>
                  <a:off x="1675080" y="397980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Line 26"/>
                <p:cNvSpPr/>
                <p:nvPr/>
              </p:nvSpPr>
              <p:spPr>
                <a:xfrm>
                  <a:off x="1675080" y="404424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Line 27"/>
                <p:cNvSpPr/>
                <p:nvPr/>
              </p:nvSpPr>
              <p:spPr>
                <a:xfrm>
                  <a:off x="1675080" y="411048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28"/>
                <p:cNvSpPr/>
                <p:nvPr/>
              </p:nvSpPr>
              <p:spPr>
                <a:xfrm>
                  <a:off x="1675080" y="4174920"/>
                  <a:ext cx="126936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Group 29"/>
              <p:cNvGrpSpPr/>
              <p:nvPr/>
            </p:nvGrpSpPr>
            <p:grpSpPr>
              <a:xfrm>
                <a:off x="1675080" y="3164040"/>
                <a:ext cx="1485000" cy="391680"/>
                <a:chOff x="1675080" y="3164040"/>
                <a:chExt cx="1485000" cy="391680"/>
              </a:xfrm>
            </p:grpSpPr>
            <p:sp>
              <p:nvSpPr>
                <p:cNvPr id="255" name="Line 30"/>
                <p:cNvSpPr/>
                <p:nvPr/>
              </p:nvSpPr>
              <p:spPr>
                <a:xfrm>
                  <a:off x="1675080" y="322884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Line 31"/>
                <p:cNvSpPr/>
                <p:nvPr/>
              </p:nvSpPr>
              <p:spPr>
                <a:xfrm>
                  <a:off x="1675080" y="329472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Line 32"/>
                <p:cNvSpPr/>
                <p:nvPr/>
              </p:nvSpPr>
              <p:spPr>
                <a:xfrm>
                  <a:off x="1675080" y="335952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Line 33"/>
                <p:cNvSpPr/>
                <p:nvPr/>
              </p:nvSpPr>
              <p:spPr>
                <a:xfrm>
                  <a:off x="1872720" y="3164040"/>
                  <a:ext cx="1287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Line 34"/>
                <p:cNvSpPr/>
                <p:nvPr/>
              </p:nvSpPr>
              <p:spPr>
                <a:xfrm>
                  <a:off x="1675080" y="342540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Line 35"/>
                <p:cNvSpPr/>
                <p:nvPr/>
              </p:nvSpPr>
              <p:spPr>
                <a:xfrm>
                  <a:off x="1675080" y="3489840"/>
                  <a:ext cx="1485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Line 36"/>
                <p:cNvSpPr/>
                <p:nvPr/>
              </p:nvSpPr>
              <p:spPr>
                <a:xfrm flipV="1">
                  <a:off x="1675080" y="3552120"/>
                  <a:ext cx="295920" cy="3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2" name="Text Box 37"/>
            <p:cNvSpPr/>
            <p:nvPr/>
          </p:nvSpPr>
          <p:spPr>
            <a:xfrm>
              <a:off x="1803240" y="2046240"/>
              <a:ext cx="119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Elephant"/>
                  <a:ea typeface="Arial"/>
                </a:rPr>
                <a:t>Texto origi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38"/>
          <p:cNvGrpSpPr/>
          <p:nvPr/>
        </p:nvGrpSpPr>
        <p:grpSpPr>
          <a:xfrm>
            <a:off x="6657840" y="1971720"/>
            <a:ext cx="1785960" cy="2454120"/>
            <a:chOff x="6657840" y="1971720"/>
            <a:chExt cx="1785960" cy="2454120"/>
          </a:xfrm>
        </p:grpSpPr>
        <p:sp>
          <p:nvSpPr>
            <p:cNvPr id="264" name="AutoShape 39"/>
            <p:cNvSpPr/>
            <p:nvPr/>
          </p:nvSpPr>
          <p:spPr>
            <a:xfrm>
              <a:off x="6657840" y="1971720"/>
              <a:ext cx="1785960" cy="2454120"/>
            </a:xfrm>
            <a:prstGeom prst="foldedCorner">
              <a:avLst>
                <a:gd name="adj" fmla="val 12500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40"/>
            <p:cNvGrpSpPr/>
            <p:nvPr/>
          </p:nvGrpSpPr>
          <p:grpSpPr>
            <a:xfrm>
              <a:off x="6807240" y="2533680"/>
              <a:ext cx="1485720" cy="652320"/>
              <a:chOff x="6807240" y="2533680"/>
              <a:chExt cx="1485720" cy="652320"/>
            </a:xfrm>
          </p:grpSpPr>
          <p:sp>
            <p:nvSpPr>
              <p:cNvPr id="266" name="Line 41"/>
              <p:cNvSpPr/>
              <p:nvPr/>
            </p:nvSpPr>
            <p:spPr>
              <a:xfrm>
                <a:off x="6807240" y="2598840"/>
                <a:ext cx="1485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42"/>
              <p:cNvSpPr/>
              <p:nvPr/>
            </p:nvSpPr>
            <p:spPr>
              <a:xfrm>
                <a:off x="6807240" y="2664000"/>
                <a:ext cx="1485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43"/>
              <p:cNvSpPr/>
              <p:nvPr/>
            </p:nvSpPr>
            <p:spPr>
              <a:xfrm>
                <a:off x="6807240" y="2728800"/>
                <a:ext cx="1485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44"/>
              <p:cNvSpPr/>
              <p:nvPr/>
            </p:nvSpPr>
            <p:spPr>
              <a:xfrm>
                <a:off x="7005600" y="2533680"/>
                <a:ext cx="1287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45"/>
              <p:cNvSpPr/>
              <p:nvPr/>
            </p:nvSpPr>
            <p:spPr>
              <a:xfrm>
                <a:off x="6807240" y="2795760"/>
                <a:ext cx="1485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46"/>
              <p:cNvSpPr/>
              <p:nvPr/>
            </p:nvSpPr>
            <p:spPr>
              <a:xfrm>
                <a:off x="6807240" y="2859120"/>
                <a:ext cx="1485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47"/>
              <p:cNvSpPr/>
              <p:nvPr/>
            </p:nvSpPr>
            <p:spPr>
              <a:xfrm>
                <a:off x="6807240" y="2925720"/>
                <a:ext cx="1485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48"/>
              <p:cNvSpPr/>
              <p:nvPr/>
            </p:nvSpPr>
            <p:spPr>
              <a:xfrm>
                <a:off x="6807240" y="2990880"/>
                <a:ext cx="1485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49"/>
              <p:cNvSpPr/>
              <p:nvPr/>
            </p:nvSpPr>
            <p:spPr>
              <a:xfrm>
                <a:off x="6807240" y="3056040"/>
                <a:ext cx="1485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50"/>
              <p:cNvSpPr/>
              <p:nvPr/>
            </p:nvSpPr>
            <p:spPr>
              <a:xfrm>
                <a:off x="6807240" y="3121200"/>
                <a:ext cx="1485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51"/>
              <p:cNvSpPr/>
              <p:nvPr/>
            </p:nvSpPr>
            <p:spPr>
              <a:xfrm>
                <a:off x="6807240" y="3186000"/>
                <a:ext cx="555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Text Box 52"/>
            <p:cNvSpPr/>
            <p:nvPr/>
          </p:nvSpPr>
          <p:spPr>
            <a:xfrm>
              <a:off x="6914880" y="2166840"/>
              <a:ext cx="129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Rage Italic"/>
                  <a:ea typeface="Arial"/>
                </a:rPr>
                <a:t>Resum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AutoShape 53"/>
          <p:cNvSpPr/>
          <p:nvPr/>
        </p:nvSpPr>
        <p:spPr>
          <a:xfrm>
            <a:off x="3654360" y="2027160"/>
            <a:ext cx="2787840" cy="2352600"/>
          </a:xfrm>
          <a:prstGeom prst="rightArrow">
            <a:avLst>
              <a:gd name="adj1" fmla="val 50000"/>
              <a:gd name="adj2" fmla="val 29625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Generalmente,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es preferibl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un solo párra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amera.wav"/>
      </p:stSnd>
    </p:sndAc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Algunos procedimientos úti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1524600" y="1892160"/>
            <a:ext cx="4249800" cy="4597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Arial"/>
              </a:rPr>
              <a:t>Sustitución por hiperóni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4"/>
          <p:cNvSpPr/>
          <p:nvPr/>
        </p:nvSpPr>
        <p:spPr>
          <a:xfrm>
            <a:off x="1403280" y="2708280"/>
            <a:ext cx="6697800" cy="2241000"/>
          </a:xfrm>
          <a:prstGeom prst="foldedCorner">
            <a:avLst>
              <a:gd name="adj" fmla="val 12500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rIns="270000" tIns="262800" bIns="190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montonaban en los rincones, pasillos y alacenas de la mansión sillas desvencijadas, sillones desfondados, desportilladas mesas que antaño mostraron orgullosas sus filigranas de nogal, ébano, teca, roble y otras maderas traídas de allende los ma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326600" y="5060880"/>
            <a:ext cx="444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Muebles viejos de maderas nobles se</a:t>
            </a:r>
            <a:br>
              <a:rPr sz="2000"/>
            </a:br>
            <a:r>
              <a:rPr b="0" i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apilaban por toda la man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2716200" y="3241800"/>
            <a:ext cx="2448000" cy="431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5292720" y="3241800"/>
            <a:ext cx="2592360" cy="431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8"/>
          <p:cNvSpPr/>
          <p:nvPr/>
        </p:nvSpPr>
        <p:spPr>
          <a:xfrm>
            <a:off x="1547640" y="3543480"/>
            <a:ext cx="2345040" cy="431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3151080" y="4187880"/>
            <a:ext cx="574920" cy="0"/>
          </a:xfrm>
          <a:prstGeom prst="line">
            <a:avLst/>
          </a:prstGeom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3957480" y="4187880"/>
            <a:ext cx="574920" cy="0"/>
          </a:xfrm>
          <a:prstGeom prst="line">
            <a:avLst/>
          </a:prstGeom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1"/>
          <p:cNvSpPr/>
          <p:nvPr/>
        </p:nvSpPr>
        <p:spPr>
          <a:xfrm>
            <a:off x="4780080" y="4187880"/>
            <a:ext cx="458640" cy="0"/>
          </a:xfrm>
          <a:prstGeom prst="line">
            <a:avLst/>
          </a:prstGeom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2"/>
          <p:cNvSpPr/>
          <p:nvPr/>
        </p:nvSpPr>
        <p:spPr>
          <a:xfrm>
            <a:off x="5386320" y="4187880"/>
            <a:ext cx="517680" cy="0"/>
          </a:xfrm>
          <a:prstGeom prst="line">
            <a:avLst/>
          </a:prstGeom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3" descr="Mansion"/>
          <p:cNvPicPr/>
          <p:nvPr/>
        </p:nvPicPr>
        <p:blipFill>
          <a:blip r:embed="rId1"/>
          <a:stretch/>
        </p:blipFill>
        <p:spPr>
          <a:xfrm>
            <a:off x="6300720" y="4991040"/>
            <a:ext cx="1758960" cy="114300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2" name="camera.wav"/>
      </p:stSnd>
    </p:sndAc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7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48148E-006 L -0.04723 0.2206 E">
                                      <p:cBhvr>
                                        <p:cTn id="608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0 L -0.19688 0.2625 E">
                                      <p:cBhvr>
                                        <p:cTn id="610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 L -0.4724 0.2625 E">
                                      <p:cBhvr>
                                        <p:cTn id="612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0.00208 L 0.0033 0.17619 E">
                                      <p:cBhvr>
                                        <p:cTn id="616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0.00208 L -0.02639 0.17619 E">
                                      <p:cBhvr>
                                        <p:cTn id="618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19653E-006 L -0.05521 0.17665 E">
                                      <p:cBhvr>
                                        <p:cTn id="620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-0.00208 L -0.07135 0.17688 E">
                                      <p:cBhvr>
                                        <p:cTn id="622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Algunos procedimientos úti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2" name="Text Box 3"/>
          <p:cNvSpPr/>
          <p:nvPr/>
        </p:nvSpPr>
        <p:spPr>
          <a:xfrm rot="16200000">
            <a:off x="-334800" y="4719240"/>
            <a:ext cx="2067480" cy="8254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Arial"/>
              </a:rPr>
              <a:t>Supresión de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Arial"/>
              </a:rPr>
              <a:t>datos y cif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4"/>
          <p:cNvSpPr/>
          <p:nvPr/>
        </p:nvSpPr>
        <p:spPr>
          <a:xfrm>
            <a:off x="1332000" y="1484280"/>
            <a:ext cx="7278480" cy="3346200"/>
          </a:xfrm>
          <a:prstGeom prst="foldedCorner">
            <a:avLst>
              <a:gd name="adj" fmla="val 12500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rIns="270000" tIns="262800" bIns="190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OSTE DE LA VUELTA AL COLE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os centros públicos no hay gastos de matrícula pero se paga comedor (entre 35 y 90 €) y transporte (entre 35 y 75 €). En los concertados, los gastos de matrícula suelen rondar los 100 € y el coste del comedor y transporte es similar al de los públicos. En cuanto a los privados, el gasto medio por mensualidad está entre los 220 y los 400 €, según las etapas escolares. El gasto de comedor se eleva a 120 € y el transporte está en torno a los 100 €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1403280" y="5013360"/>
            <a:ext cx="550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l coste de la vuelta al colegio es mucho más alto en los centros privados que en los públicos y concer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6" descr="insti8"/>
          <p:cNvPicPr/>
          <p:nvPr/>
        </p:nvPicPr>
        <p:blipFill>
          <a:blip r:embed="rId1"/>
          <a:stretch/>
        </p:blipFill>
        <p:spPr>
          <a:xfrm>
            <a:off x="7209000" y="5253120"/>
            <a:ext cx="1333440" cy="1000080"/>
          </a:xfrm>
          <a:prstGeom prst="rect">
            <a:avLst/>
          </a:prstGeom>
          <a:ln w="0">
            <a:noFill/>
          </a:ln>
        </p:spPr>
      </p:pic>
    </p:spTree>
  </p:cSld>
  <p:transition>
    <p:cover dir="l"/>
    <p:sndAc>
      <p:stSnd>
        <p:snd r:embed="rId2" name="camera.wav"/>
      </p:stSnd>
    </p:sndAc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Arial"/>
              </a:rPr>
              <a:t>Algunos procedimientos úti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1476360" y="1413000"/>
            <a:ext cx="7121520" cy="4597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Arial"/>
              </a:rPr>
              <a:t>Reducción o supresión de adyacentes lar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"/>
          <p:cNvSpPr/>
          <p:nvPr/>
        </p:nvSpPr>
        <p:spPr>
          <a:xfrm>
            <a:off x="3708360" y="2276640"/>
            <a:ext cx="4916520" cy="3621240"/>
          </a:xfrm>
          <a:prstGeom prst="foldedCorner">
            <a:avLst>
              <a:gd name="adj" fmla="val 12500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rIns="270000" tIns="262800" bIns="190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Heavy"/>
                <a:ea typeface="Arial"/>
              </a:rPr>
              <a:t>Todos estos adolescentes que, </a:t>
            </a:r>
            <a:r>
              <a:rPr b="1" lang="es-ES" sz="1800" spc="-1" strike="noStrike">
                <a:solidFill>
                  <a:srgbClr val="ff3300"/>
                </a:solidFill>
                <a:latin typeface="Franklin Gothic Heavy"/>
                <a:ea typeface="Arial"/>
              </a:rPr>
              <a:t>sor-prendidos cruelmente por su propio organismo en desarrollo con descargas hormonales insospechadas, muestran un comportamiento huraño y retraído en casa</a:t>
            </a:r>
            <a:r>
              <a:rPr b="1" lang="es-ES" sz="1800" spc="-1" strike="noStrike">
                <a:solidFill>
                  <a:srgbClr val="000000"/>
                </a:solidFill>
                <a:latin typeface="Franklin Gothic Heavy"/>
                <a:ea typeface="Arial"/>
              </a:rPr>
              <a:t>, </a:t>
            </a:r>
            <a:r>
              <a:rPr b="1" lang="es-ES" sz="1800" spc="-1" strike="noStrike">
                <a:solidFill>
                  <a:srgbClr val="6600cc"/>
                </a:solidFill>
                <a:latin typeface="Franklin Gothic Heavy"/>
                <a:ea typeface="Arial"/>
              </a:rPr>
              <a:t>son los que dibujan el retrato prototípico del adolescente que aparece en los manuales de psicolog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1403280" y="5373720"/>
            <a:ext cx="744552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Los adolescentes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s-ES" sz="2400" spc="-1" strike="noStrike">
                <a:solidFill>
                  <a:srgbClr val="ff3300"/>
                </a:solidFill>
                <a:latin typeface="Arial"/>
                <a:ea typeface="Arial"/>
              </a:rPr>
              <a:t>huraños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s-ES" sz="2400" spc="-1" strike="noStrike">
                <a:solidFill>
                  <a:srgbClr val="6600cc"/>
                </a:solidFill>
                <a:latin typeface="Arial"/>
                <a:ea typeface="Arial"/>
              </a:rPr>
              <a:t>constituyen el arquetipo que se estudia en los manu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6" descr="Adolescente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39640" y="2133720"/>
            <a:ext cx="2146320" cy="316224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camera.wav"/>
      </p:stSnd>
    </p:sndAc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0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332000" y="2997360"/>
            <a:ext cx="597672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3300"/>
                </a:solidFill>
                <a:latin typeface="Arial"/>
              </a:rPr>
              <a:t>3 pun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cc"/>
                </a:solidFill>
                <a:latin typeface="Arial"/>
              </a:rPr>
              <a:t>Tercera pregunta del examen de Selectiv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WordArt 4"/>
          <p:cNvSpPr txBox="1"/>
          <p:nvPr/>
        </p:nvSpPr>
        <p:spPr>
          <a:xfrm>
            <a:off x="1979640" y="1413000"/>
            <a:ext cx="5616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Comentario crítico</a:t>
            </a:r>
            <a:endParaRPr b="0" lang="en-US" sz="2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sobre el contenido del texto</a:t>
            </a:r>
            <a:endParaRPr b="0" lang="en-US" sz="2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  <p:sndAc>
      <p:stSnd>
        <p:snd r:embed="rId1" name="camera.wav"/>
      </p:stSnd>
    </p:sndAc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"/>
                            </p:stCondLst>
                            <p:childTnLst>
                              <p:par>
                                <p:cTn id="68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25"/>
                            </p:stCondLst>
                            <p:childTnLst>
                              <p:par>
                                <p:cTn id="69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2 Marcador de número de diapositiva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8EC3-4C20-4594-87CF-4E460F81D53D}" type="slidenum">
              <a:rPr b="1" lang="es-ES" sz="1200" spc="-1" strike="noStrike">
                <a:solidFill>
                  <a:srgbClr val="5f5f5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8" descr="GraduaciónGuiño"/>
          <p:cNvPicPr/>
          <p:nvPr/>
        </p:nvPicPr>
        <p:blipFill>
          <a:blip r:embed="rId1"/>
          <a:stretch/>
        </p:blipFill>
        <p:spPr>
          <a:xfrm>
            <a:off x="6751800" y="3263760"/>
            <a:ext cx="2070000" cy="23194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4"/>
          <p:cNvSpPr/>
          <p:nvPr/>
        </p:nvSpPr>
        <p:spPr>
          <a:xfrm>
            <a:off x="2235240" y="4765680"/>
            <a:ext cx="3700440" cy="4064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171360" y="3860640"/>
            <a:ext cx="165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Verdana"/>
                <a:ea typeface="Arial"/>
              </a:rPr>
              <a:t>Comentario</a:t>
            </a:r>
            <a:br>
              <a:rPr sz="2000"/>
            </a:br>
            <a:r>
              <a:rPr b="0" lang="es-ES" sz="2000" spc="-1" strike="noStrike">
                <a:solidFill>
                  <a:srgbClr val="0000cc"/>
                </a:solidFill>
                <a:latin typeface="Verdana"/>
                <a:ea typeface="Arial"/>
              </a:rPr>
              <a:t>de tex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1835280" y="3357720"/>
            <a:ext cx="258480" cy="1800000"/>
          </a:xfrm>
          <a:custGeom>
            <a:avLst/>
            <a:gdLst>
              <a:gd name="textAreaLeft" fmla="*/ 165240 w 258480"/>
              <a:gd name="textAreaRight" fmla="*/ 258840 w 25848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2332080" y="3308400"/>
            <a:ext cx="280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Verdana"/>
                <a:ea typeface="Arial"/>
              </a:rPr>
              <a:t>1ª parte:</a:t>
            </a:r>
            <a:r>
              <a:rPr b="0" lang="es-ES" sz="2000" spc="-1" strike="noStrike">
                <a:solidFill>
                  <a:srgbClr val="5f5f5f"/>
                </a:solidFill>
                <a:latin typeface="Verdana"/>
                <a:ea typeface="Arial"/>
              </a:rPr>
              <a:t> </a:t>
            </a:r>
            <a:r>
              <a:rPr b="0" lang="es-ES" sz="2000" spc="-1" strike="noStrike">
                <a:solidFill>
                  <a:srgbClr val="0000cc"/>
                </a:solidFill>
                <a:latin typeface="Verdana"/>
                <a:ea typeface="Arial"/>
              </a:rPr>
              <a:t>organ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Verdana"/>
                <a:ea typeface="Arial"/>
              </a:rPr>
              <a:t>               </a:t>
            </a:r>
            <a:r>
              <a:rPr b="0" lang="es-ES" sz="2000" spc="-1" strike="noStrike">
                <a:solidFill>
                  <a:srgbClr val="0000cc"/>
                </a:solidFill>
                <a:latin typeface="Verdana"/>
                <a:ea typeface="Arial"/>
              </a:rPr>
              <a:t>de las ideas</a:t>
            </a:r>
            <a:r>
              <a:rPr b="0" lang="es-ES" sz="2000" spc="-1" strike="noStrike">
                <a:solidFill>
                  <a:srgbClr val="5f5f5f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307960" y="3933720"/>
            <a:ext cx="18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Verdana"/>
                <a:ea typeface="Arial"/>
              </a:rPr>
              <a:t>2ª parte:</a:t>
            </a:r>
            <a:r>
              <a:rPr b="0" lang="es-ES" sz="2000" spc="-1" strike="noStrike">
                <a:solidFill>
                  <a:srgbClr val="5f5f5f"/>
                </a:solidFill>
                <a:latin typeface="Verdana"/>
                <a:ea typeface="Arial"/>
              </a:rPr>
              <a:t> </a:t>
            </a:r>
            <a:r>
              <a:rPr b="0" lang="es-ES" sz="2000" spc="-1" strike="noStrike">
                <a:solidFill>
                  <a:srgbClr val="0000cc"/>
                </a:solidFill>
                <a:latin typeface="Verdana"/>
                <a:ea typeface="Arial"/>
              </a:rPr>
              <a:t>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2293560" y="4273560"/>
            <a:ext cx="232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Verdana"/>
                <a:ea typeface="Arial"/>
              </a:rPr>
              <a:t>3ª parte:</a:t>
            </a:r>
            <a:r>
              <a:rPr b="0" lang="es-ES" sz="2000" spc="-1" strike="noStrike">
                <a:solidFill>
                  <a:srgbClr val="5f5f5f"/>
                </a:solidFill>
                <a:latin typeface="Verdana"/>
                <a:ea typeface="Arial"/>
              </a:rPr>
              <a:t> </a:t>
            </a:r>
            <a:r>
              <a:rPr b="0" lang="es-ES" sz="2000" spc="-1" strike="noStrike">
                <a:solidFill>
                  <a:srgbClr val="0000cc"/>
                </a:solidFill>
                <a:latin typeface="Verdana"/>
                <a:ea typeface="Arial"/>
              </a:rPr>
              <a:t>resu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2330640" y="4756320"/>
            <a:ext cx="342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Verdana"/>
                <a:ea typeface="Arial"/>
              </a:rPr>
              <a:t>4ª parte: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s-ES" sz="2000" spc="-1" strike="noStrike">
                <a:solidFill>
                  <a:srgbClr val="0000cc"/>
                </a:solidFill>
                <a:latin typeface="Verdana"/>
                <a:ea typeface="Arial"/>
              </a:rPr>
              <a:t>comentario crí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258840" y="5940360"/>
            <a:ext cx="8559720" cy="3834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cc"/>
                </a:solidFill>
                <a:latin typeface="Verdana"/>
                <a:ea typeface="Arial"/>
              </a:rPr>
              <a:t>evita repetir al pie de la letra lo ya dicho en las preguntas anterio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1042920" y="260280"/>
            <a:ext cx="7274160" cy="1434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cc"/>
                </a:solidFill>
                <a:latin typeface="Arial"/>
                <a:ea typeface="Arial"/>
              </a:rPr>
              <a:t>El comentario de texto de la prueba de Selectividad consta de una serie de apartados: organización de las ideas o estructura, tema, resumen y comentario crítico propiamente dich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257040" y="5524560"/>
            <a:ext cx="8556840" cy="4255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Verdana"/>
                <a:ea typeface="Arial"/>
              </a:rPr>
              <a:t>Caben alusiones a lo anterior, ampliaciones, matizaciones…  P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9"/>
          <p:cNvSpPr/>
          <p:nvPr/>
        </p:nvSpPr>
        <p:spPr>
          <a:xfrm>
            <a:off x="5003640" y="1844640"/>
            <a:ext cx="2598840" cy="1204920"/>
          </a:xfrm>
          <a:prstGeom prst="wedgeRoundRectCallout">
            <a:avLst>
              <a:gd name="adj1" fmla="val 58185"/>
              <a:gd name="adj2" fmla="val 1145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Pues, yo lo hice sin que se notara mucho… y col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20"/>
          <p:cNvSpPr/>
          <p:nvPr/>
        </p:nvSpPr>
        <p:spPr>
          <a:xfrm>
            <a:off x="262080" y="5915160"/>
            <a:ext cx="1639800" cy="47916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  <p:sndAc>
      <p:stSnd>
        <p:snd r:embed="rId2" name="camera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6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6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76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26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76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5.78035E-007 C -0.02413 0.02775 -0.05278 0.05457 -0.08385 0.05942 C -0.11458 0.06428 -0.16458 0.01965 -0.18628 0.02844 C -0.20816 0.03699 -0.20885 0.09503 -0.21441 0.1126 E">
                                      <p:cBhvr>
                                        <p:cTn id="64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27" repeatCount="7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0" dur="25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1" dur="25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2" dur="25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500"/>
                            </p:stCondLst>
                            <p:childTnLst>
                              <p:par>
                                <p:cTn id="8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cc"/>
                </a:solidFill>
                <a:latin typeface="Arial"/>
              </a:rPr>
              <a:t>¿Qué es el comentario crítico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Es una reflexión crítica sobre el contenido del texto partiendo de la idea central o tesis en la que el alumno debe demostrar su madurez y capacidad para disertar sobre un tema con fluidez, originalidad y coherenc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0000"/>
                </a:solidFill>
                <a:latin typeface="Arial"/>
              </a:rPr>
              <a:t>Truco: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el alumno actuará  como si se tratara de un ejercicio de redacción sobre un tema determinado, con argumentos y opiniones basados en datos, hechos y experienci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2 Marcador de número de diapositiva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A727-5AE8-425E-81C0-1A98A636E324}" type="slidenum">
              <a:rPr b="1" lang="es-ES" sz="1200" spc="-1" strike="noStrike">
                <a:solidFill>
                  <a:srgbClr val="5f5f5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cc"/>
                </a:solidFill>
                <a:latin typeface="Arial"/>
              </a:rPr>
              <a:t>Muy importante: no es un comentario de la expresión, sino del contenid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8" name="AutoShape 9"/>
          <p:cNvSpPr/>
          <p:nvPr/>
        </p:nvSpPr>
        <p:spPr>
          <a:xfrm>
            <a:off x="1530360" y="2246400"/>
            <a:ext cx="3462480" cy="3270240"/>
          </a:xfrm>
          <a:prstGeom prst="pi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Arial"/>
              </a:rPr>
              <a:t>Análisis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Arial"/>
              </a:rPr>
              <a:t>caracterización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Arial"/>
              </a:rPr>
              <a:t>de la exp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16"/>
          <p:cNvGrpSpPr/>
          <p:nvPr/>
        </p:nvGrpSpPr>
        <p:grpSpPr>
          <a:xfrm>
            <a:off x="5183280" y="2263680"/>
            <a:ext cx="3265560" cy="3251160"/>
            <a:chOff x="5183280" y="2263680"/>
            <a:chExt cx="3265560" cy="3251160"/>
          </a:xfrm>
        </p:grpSpPr>
        <p:sp>
          <p:nvSpPr>
            <p:cNvPr id="310" name="Rectangle 14"/>
            <p:cNvSpPr/>
            <p:nvPr/>
          </p:nvSpPr>
          <p:spPr>
            <a:xfrm>
              <a:off x="5183280" y="2263680"/>
              <a:ext cx="3265560" cy="32511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11"/>
            <p:cNvSpPr/>
            <p:nvPr/>
          </p:nvSpPr>
          <p:spPr>
            <a:xfrm>
              <a:off x="5353200" y="2424240"/>
              <a:ext cx="2946240" cy="2917800"/>
            </a:xfrm>
            <a:prstGeom prst="upArrow">
              <a:avLst>
                <a:gd name="adj1" fmla="val 58565"/>
                <a:gd name="adj2" fmla="val 2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náli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y juici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sobre 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conteni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Text Box 12"/>
          <p:cNvSpPr/>
          <p:nvPr/>
        </p:nvSpPr>
        <p:spPr>
          <a:xfrm>
            <a:off x="1187280" y="1700280"/>
            <a:ext cx="724068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No hay que explicar la forma sino el fondo del tex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3"/>
          <p:cNvSpPr/>
          <p:nvPr/>
        </p:nvSpPr>
        <p:spPr>
          <a:xfrm>
            <a:off x="317520" y="5635800"/>
            <a:ext cx="8356680" cy="764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Verdana"/>
                <a:ea typeface="Arial"/>
              </a:rPr>
              <a:t>Se puede hacer referencia a rasgos formales siempre que nos permitan extraer conclusiones sobre el 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  <p:sndAc>
      <p:stSnd>
        <p:snd r:embed="rId1" name="camera.wav"/>
      </p:stSnd>
    </p:sndAc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2 Marcador de número de diapositiva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0DFE-83C7-4251-BAF6-6944F7D95310}" type="slidenum">
              <a:rPr b="1" lang="es-ES" sz="1200" spc="-1" strike="noStrike">
                <a:solidFill>
                  <a:srgbClr val="5f5f5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8"/>
          <p:cNvSpPr/>
          <p:nvPr/>
        </p:nvSpPr>
        <p:spPr>
          <a:xfrm>
            <a:off x="1422360" y="4730760"/>
            <a:ext cx="7185240" cy="16574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cc"/>
                </a:solidFill>
                <a:latin typeface="Arial"/>
              </a:rPr>
              <a:t>¿Qué tipos de textos pueden aparecer en el examen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332000" y="1628640"/>
            <a:ext cx="720072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En teoría se podría seleccionar cualquier tipo de tex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1484280" y="5418000"/>
            <a:ext cx="3533760" cy="9475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Verdana"/>
                <a:ea typeface="Arial"/>
              </a:rPr>
              <a:t>Textos periodís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  <a:ea typeface="Arial"/>
              </a:rPr>
              <a:t>Colum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  <a:ea typeface="Arial"/>
              </a:rPr>
              <a:t>Editor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5045040" y="4767120"/>
            <a:ext cx="3527640" cy="14961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Verdana"/>
                <a:ea typeface="Arial"/>
              </a:rPr>
              <a:t>Textos liter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  <a:ea typeface="Arial"/>
              </a:rPr>
              <a:t>Fragmentos de nove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  <a:ea typeface="Arial"/>
              </a:rPr>
              <a:t>Fragmentos de dra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  <a:ea typeface="Arial"/>
              </a:rPr>
              <a:t>Fragmentos de po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  <a:ea typeface="Arial"/>
              </a:rPr>
              <a:t>Poemas compl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13" descr="FabadaAsturiana"/>
          <p:cNvPicPr/>
          <p:nvPr/>
        </p:nvPicPr>
        <p:blipFill>
          <a:blip r:embed="rId1"/>
          <a:stretch/>
        </p:blipFill>
        <p:spPr>
          <a:xfrm>
            <a:off x="3913200" y="2417760"/>
            <a:ext cx="1581120" cy="21225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4" descr="TextoPlanContabilidad"/>
          <p:cNvPicPr/>
          <p:nvPr/>
        </p:nvPicPr>
        <p:blipFill>
          <a:blip r:embed="rId2"/>
          <a:stretch/>
        </p:blipFill>
        <p:spPr>
          <a:xfrm>
            <a:off x="1425600" y="2246400"/>
            <a:ext cx="1622520" cy="22827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6" descr="ProspectoMedicinas"/>
          <p:cNvPicPr/>
          <p:nvPr/>
        </p:nvPicPr>
        <p:blipFill>
          <a:blip r:embed="rId3"/>
          <a:stretch/>
        </p:blipFill>
        <p:spPr>
          <a:xfrm>
            <a:off x="6167520" y="2313000"/>
            <a:ext cx="2448000" cy="227952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9"/>
          <p:cNvSpPr/>
          <p:nvPr/>
        </p:nvSpPr>
        <p:spPr>
          <a:xfrm>
            <a:off x="1492200" y="4765680"/>
            <a:ext cx="352584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En la práctica se 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elegido só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  <p:sndAc>
      <p:stSnd>
        <p:snd r:embed="rId4" name="camera.wav"/>
      </p:stSnd>
    </p:sndAc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0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0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1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2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7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8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9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2 Marcador de número de diapositiva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A072-7C21-4165-979B-8B81C121C3C4}" type="slidenum">
              <a:rPr b="1" lang="es-ES" sz="1200" spc="-1" strike="noStrike">
                <a:solidFill>
                  <a:srgbClr val="5f5f5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cc"/>
                </a:solidFill>
                <a:latin typeface="Arial"/>
              </a:rPr>
              <a:t>¿Qué temática pueden aparecer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" name="AutoShape 5"/>
          <p:cNvSpPr/>
          <p:nvPr/>
        </p:nvSpPr>
        <p:spPr>
          <a:xfrm>
            <a:off x="1405080" y="2190600"/>
            <a:ext cx="3128760" cy="1008000"/>
          </a:xfrm>
          <a:custGeom>
            <a:avLst/>
            <a:gdLst>
              <a:gd name="textAreaLeft" fmla="*/ 0 w 3128760"/>
              <a:gd name="textAreaRight" fmla="*/ 3129120 w 312876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94" y="0"/>
                </a:lnTo>
                <a:lnTo>
                  <a:pt x="21600" y="10800"/>
                </a:lnTo>
                <a:lnTo>
                  <a:pt x="1909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La prueba trata de medir la madurez intelectual y cul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6"/>
          <p:cNvSpPr/>
          <p:nvPr/>
        </p:nvSpPr>
        <p:spPr>
          <a:xfrm flipH="1">
            <a:off x="2307600" y="3490920"/>
            <a:ext cx="1909800" cy="1618560"/>
          </a:xfrm>
          <a:custGeom>
            <a:avLst/>
            <a:gdLst>
              <a:gd name="textAreaLeft" fmla="*/ -360 w 1909800"/>
              <a:gd name="textAreaRight" fmla="*/ 1909800 w 1909800"/>
              <a:gd name="textAreaTop" fmla="*/ 0 h 1618560"/>
              <a:gd name="textAreaBottom" fmla="*/ 1618920 h 161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Con frecuencia, los textos tratan de temas de actu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284040" y="5708520"/>
            <a:ext cx="8597880" cy="703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La lectura frecuente de editoriales y columnas periodísticos te mantendrá informado de la actualidad política, cultural y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9" descr="diarios"/>
          <p:cNvPicPr/>
          <p:nvPr/>
        </p:nvPicPr>
        <p:blipFill>
          <a:blip r:embed="rId1"/>
          <a:stretch/>
        </p:blipFill>
        <p:spPr>
          <a:xfrm>
            <a:off x="351000" y="3409920"/>
            <a:ext cx="1760400" cy="214164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17"/>
          <p:cNvSpPr/>
          <p:nvPr/>
        </p:nvSpPr>
        <p:spPr>
          <a:xfrm>
            <a:off x="4632480" y="1643040"/>
            <a:ext cx="402408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¿Hay que saber de to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24"/>
          <p:cNvGrpSpPr/>
          <p:nvPr/>
        </p:nvGrpSpPr>
        <p:grpSpPr>
          <a:xfrm>
            <a:off x="5408640" y="4299120"/>
            <a:ext cx="1358640" cy="1282680"/>
            <a:chOff x="5408640" y="4299120"/>
            <a:chExt cx="1358640" cy="1282680"/>
          </a:xfrm>
        </p:grpSpPr>
        <p:pic>
          <p:nvPicPr>
            <p:cNvPr id="332" name="Picture 14" descr="Tematicacorazon"/>
            <p:cNvPicPr/>
            <p:nvPr/>
          </p:nvPicPr>
          <p:blipFill>
            <a:blip r:embed="rId2"/>
            <a:stretch/>
          </p:blipFill>
          <p:spPr>
            <a:xfrm>
              <a:off x="5408640" y="4299120"/>
              <a:ext cx="1358640" cy="12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Text Box 18"/>
            <p:cNvSpPr/>
            <p:nvPr/>
          </p:nvSpPr>
          <p:spPr>
            <a:xfrm>
              <a:off x="5657760" y="466416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m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23"/>
          <p:cNvGrpSpPr/>
          <p:nvPr/>
        </p:nvGrpSpPr>
        <p:grpSpPr>
          <a:xfrm>
            <a:off x="5081760" y="3467160"/>
            <a:ext cx="1838160" cy="923760"/>
            <a:chOff x="5081760" y="3467160"/>
            <a:chExt cx="1838160" cy="923760"/>
          </a:xfrm>
        </p:grpSpPr>
        <p:pic>
          <p:nvPicPr>
            <p:cNvPr id="335" name="Picture 16" descr="TematicaAtaud"/>
            <p:cNvPicPr/>
            <p:nvPr/>
          </p:nvPicPr>
          <p:blipFill>
            <a:blip r:embed="rId3"/>
            <a:srcRect l="1523" t="1685" r="0" b="0"/>
            <a:stretch/>
          </p:blipFill>
          <p:spPr>
            <a:xfrm>
              <a:off x="5081760" y="3467160"/>
              <a:ext cx="1838160" cy="9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Text Box 19"/>
            <p:cNvSpPr/>
            <p:nvPr/>
          </p:nvSpPr>
          <p:spPr>
            <a:xfrm>
              <a:off x="5523840" y="3763800"/>
              <a:ext cx="105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muer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25"/>
          <p:cNvGrpSpPr/>
          <p:nvPr/>
        </p:nvGrpSpPr>
        <p:grpSpPr>
          <a:xfrm>
            <a:off x="6997680" y="3433680"/>
            <a:ext cx="1160280" cy="1495440"/>
            <a:chOff x="6997680" y="3433680"/>
            <a:chExt cx="1160280" cy="1495440"/>
          </a:xfrm>
        </p:grpSpPr>
        <p:pic>
          <p:nvPicPr>
            <p:cNvPr id="338" name="Picture 13" descr="TematicaVida"/>
            <p:cNvPicPr/>
            <p:nvPr/>
          </p:nvPicPr>
          <p:blipFill>
            <a:blip r:embed="rId4"/>
            <a:stretch/>
          </p:blipFill>
          <p:spPr>
            <a:xfrm>
              <a:off x="6997680" y="3446640"/>
              <a:ext cx="1160280" cy="14824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339" name="Text Box 20"/>
            <p:cNvSpPr/>
            <p:nvPr/>
          </p:nvSpPr>
          <p:spPr>
            <a:xfrm>
              <a:off x="7425360" y="343368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vid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Rectangle 21"/>
          <p:cNvSpPr/>
          <p:nvPr/>
        </p:nvSpPr>
        <p:spPr>
          <a:xfrm>
            <a:off x="1454400" y="1643040"/>
            <a:ext cx="164988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Muy vari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2"/>
          <p:cNvSpPr/>
          <p:nvPr/>
        </p:nvSpPr>
        <p:spPr>
          <a:xfrm>
            <a:off x="4637160" y="2193840"/>
            <a:ext cx="4016160" cy="10087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Hay que tener opiniones formadas sobre cualquier tema impor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5" name="camera.wav"/>
      </p:stSnd>
    </p:sndAc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00"/>
                            </p:stCondLst>
                            <p:childTnLst>
                              <p:par>
                                <p:cTn id="8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000"/>
                            </p:stCondLst>
                            <p:childTnLst>
                              <p:par>
                                <p:cTn id="8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500"/>
                            </p:stCondLst>
                            <p:childTnLst>
                              <p:par>
                                <p:cTn id="8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2000"/>
                            </p:stCondLst>
                            <p:childTnLst>
                              <p:par>
                                <p:cTn id="8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2 Marcador de número de diapositiva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7220-BC81-48A3-80B8-11F66705BE52}" type="slidenum">
              <a:rPr b="1" lang="es-ES" sz="1200" spc="-1" strike="noStrike">
                <a:solidFill>
                  <a:srgbClr val="5f5f5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0"/>
          <p:cNvSpPr/>
          <p:nvPr/>
        </p:nvSpPr>
        <p:spPr>
          <a:xfrm>
            <a:off x="1393920" y="1639800"/>
            <a:ext cx="3149640" cy="2498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cc"/>
                </a:solidFill>
                <a:latin typeface="Arial"/>
              </a:rPr>
              <a:t>¿Cuál es la extensión ideal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488960" y="1714680"/>
            <a:ext cx="2986200" cy="45972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8f8f8"/>
                </a:solidFill>
                <a:latin typeface="Verdana"/>
                <a:ea typeface="Arial"/>
              </a:rPr>
              <a:t>Res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1488960" y="2173320"/>
            <a:ext cx="2990880" cy="45972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8f8f8"/>
                </a:solidFill>
                <a:latin typeface="Verdana"/>
                <a:ea typeface="Arial"/>
              </a:rPr>
              <a:t>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1488960" y="2825640"/>
            <a:ext cx="2989440" cy="4597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8f8f8"/>
                </a:solidFill>
                <a:latin typeface="Verdana"/>
                <a:ea typeface="Arial"/>
              </a:rPr>
              <a:t>Estru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1570320" y="3606840"/>
            <a:ext cx="2824920" cy="459720"/>
          </a:xfrm>
          <a:prstGeom prst="rect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8f8f8"/>
                </a:solidFill>
                <a:latin typeface="Verdana"/>
                <a:ea typeface="Arial"/>
              </a:rPr>
              <a:t>Comentario crí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2"/>
          <p:cNvSpPr/>
          <p:nvPr/>
        </p:nvSpPr>
        <p:spPr>
          <a:xfrm flipH="1">
            <a:off x="4865760" y="2728800"/>
            <a:ext cx="3759120" cy="709560"/>
          </a:xfrm>
          <a:custGeom>
            <a:avLst/>
            <a:gdLst>
              <a:gd name="textAreaLeft" fmla="*/ 360 w 3759120"/>
              <a:gd name="textAreaRight" fmla="*/ 3759840 w 37591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8f8f8"/>
                </a:solidFill>
                <a:latin typeface="Verdana"/>
                <a:ea typeface="Arial"/>
              </a:rPr>
              <a:t>Concisa pero no</a:t>
            </a:r>
            <a:br>
              <a:rPr sz="2000"/>
            </a:br>
            <a:r>
              <a:rPr b="0" lang="es-ES" sz="2000" spc="-1" strike="noStrike">
                <a:solidFill>
                  <a:srgbClr val="f8f8f8"/>
                </a:solidFill>
                <a:latin typeface="Verdana"/>
                <a:ea typeface="Arial"/>
              </a:rPr>
              <a:t>necesariamente br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3"/>
          <p:cNvSpPr/>
          <p:nvPr/>
        </p:nvSpPr>
        <p:spPr>
          <a:xfrm flipH="1">
            <a:off x="4862520" y="3638520"/>
            <a:ext cx="3759120" cy="449280"/>
          </a:xfrm>
          <a:custGeom>
            <a:avLst/>
            <a:gdLst>
              <a:gd name="textAreaLeft" fmla="*/ 360 w 3759120"/>
              <a:gd name="textAreaRight" fmla="*/ 3759840 w 37591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8f8f8"/>
                </a:solidFill>
                <a:latin typeface="Verdana"/>
                <a:ea typeface="Arial"/>
              </a:rPr>
              <a:t>Ni breve ni conc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4"/>
          <p:cNvSpPr/>
          <p:nvPr/>
        </p:nvSpPr>
        <p:spPr>
          <a:xfrm flipH="1">
            <a:off x="4840200" y="1976400"/>
            <a:ext cx="3759120" cy="449280"/>
          </a:xfrm>
          <a:custGeom>
            <a:avLst/>
            <a:gdLst>
              <a:gd name="textAreaLeft" fmla="*/ 360 w 3759120"/>
              <a:gd name="textAreaRight" fmla="*/ 3759840 w 37591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8f8f8"/>
                </a:solidFill>
                <a:latin typeface="Verdana"/>
                <a:ea typeface="Arial"/>
              </a:rPr>
              <a:t>Breves y conci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5"/>
          <p:cNvSpPr/>
          <p:nvPr/>
        </p:nvSpPr>
        <p:spPr>
          <a:xfrm>
            <a:off x="4211640" y="4869000"/>
            <a:ext cx="4559400" cy="703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8f8f8"/>
                </a:solidFill>
                <a:latin typeface="Verdana"/>
                <a:ea typeface="Arial"/>
              </a:rPr>
              <a:t>Evita especialmente los esquemas y las contestaciones telegráf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9"/>
          <p:cNvSpPr/>
          <p:nvPr/>
        </p:nvSpPr>
        <p:spPr>
          <a:xfrm flipH="1" rot="1146000">
            <a:off x="964440" y="4795920"/>
            <a:ext cx="2856960" cy="64980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f5f5f"/>
                </a:solidFill>
                <a:latin typeface="Verdana"/>
                <a:ea typeface="Arial"/>
              </a:rPr>
              <a:t>500 palab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  <p:sndAc>
      <p:stSnd>
        <p:snd r:embed="rId1" name="camera.wav"/>
      </p:stSnd>
    </p:sndAc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0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500"/>
                            </p:stCondLst>
                            <p:childTnLst>
                              <p:par>
                                <p:cTn id="8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1000"/>
                            </p:stCondLst>
                            <p:childTnLst>
                              <p:par>
                                <p:cTn id="890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1" dur="250" autoRev="1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92" dur="250" autoRev="1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93" dur="250" autoRev="1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5" dur="250" autoRev="1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96" dur="250" autoRev="1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97" dur="250" autoRev="1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192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3" dur="192" fill="hold"/>
                                        <p:tgtEl>
                                          <p:spTgt spid="3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5" dur="192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7" dur="192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cc"/>
                </a:solidFill>
                <a:latin typeface="Arial"/>
              </a:rPr>
              <a:t>Errores que deben evitar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Volver a contar, de forma más extensa, el resumen del tex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ntender crítica como censu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No justificar nuestras impresiones de agrado o rechaz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Hacer un comentario literario, lingüístico o pragmát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provechar el texto para desarrollar un tema de literatu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4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9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2 Marcador de número de diapositiva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39DD-E573-40BE-812C-96A2718B7AE3}" type="slidenum">
              <a:rPr b="1" lang="es-ES" sz="1200" spc="-1" strike="noStrike">
                <a:solidFill>
                  <a:srgbClr val="5f5f5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Arial"/>
              </a:rPr>
              <a:t>Evitar posturas extrem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1442880" y="1709640"/>
            <a:ext cx="2671920" cy="398880"/>
          </a:xfrm>
          <a:prstGeom prst="rect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Posturas extr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1438200" y="2212920"/>
            <a:ext cx="2676600" cy="16185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En algunos comentarios se nos pide nuestra opinión sobre un tema controvert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2"/>
          <p:cNvSpPr/>
          <p:nvPr/>
        </p:nvSpPr>
        <p:spPr>
          <a:xfrm>
            <a:off x="182520" y="5686560"/>
            <a:ext cx="8761320" cy="703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Es recomendable enfrentar el asunto desde varios puntos de vista, considerar pros y contras, independientemente de nuestra opin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3"/>
          <p:cNvSpPr/>
          <p:nvPr/>
        </p:nvSpPr>
        <p:spPr>
          <a:xfrm>
            <a:off x="173160" y="4067280"/>
            <a:ext cx="387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5f5f5f"/>
                </a:solidFill>
                <a:latin typeface="Verdana"/>
                <a:ea typeface="Arial"/>
              </a:rPr>
              <a:t>Los inmigrantes vienen a quitarnos el trabajo a nosotros. Habría que echarlos a todos a su paí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4"/>
          <p:cNvSpPr/>
          <p:nvPr/>
        </p:nvSpPr>
        <p:spPr>
          <a:xfrm>
            <a:off x="4305240" y="1601640"/>
            <a:ext cx="441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5f5f5f"/>
                </a:solidFill>
                <a:latin typeface="Verdana"/>
                <a:ea typeface="Arial"/>
              </a:rPr>
              <a:t>La madre debería poder acabar con el feto mientras estuviera en su barriga, puesto que es suy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22"/>
          <p:cNvGrpSpPr/>
          <p:nvPr/>
        </p:nvGrpSpPr>
        <p:grpSpPr>
          <a:xfrm>
            <a:off x="4309920" y="2716200"/>
            <a:ext cx="2876760" cy="2146320"/>
            <a:chOff x="4309920" y="2716200"/>
            <a:chExt cx="2876760" cy="2146320"/>
          </a:xfrm>
        </p:grpSpPr>
        <p:pic>
          <p:nvPicPr>
            <p:cNvPr id="364" name="Picture 15" descr="Ecografía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4309920" y="2716200"/>
              <a:ext cx="2876760" cy="2146320"/>
            </a:xfrm>
            <a:prstGeom prst="rect">
              <a:avLst/>
            </a:prstGeom>
            <a:ln w="9360">
              <a:solidFill>
                <a:srgbClr val="5f5f5f"/>
              </a:solidFill>
              <a:miter/>
            </a:ln>
          </p:spPr>
        </p:pic>
        <p:sp>
          <p:nvSpPr>
            <p:cNvPr id="365" name="Text Box 18"/>
            <p:cNvSpPr/>
            <p:nvPr/>
          </p:nvSpPr>
          <p:spPr>
            <a:xfrm>
              <a:off x="5669640" y="3051000"/>
              <a:ext cx="10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bor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23"/>
          <p:cNvGrpSpPr/>
          <p:nvPr/>
        </p:nvGrpSpPr>
        <p:grpSpPr>
          <a:xfrm>
            <a:off x="4407840" y="4368960"/>
            <a:ext cx="2234160" cy="1203120"/>
            <a:chOff x="4407840" y="4368960"/>
            <a:chExt cx="2234160" cy="1203120"/>
          </a:xfrm>
        </p:grpSpPr>
        <p:pic>
          <p:nvPicPr>
            <p:cNvPr id="367" name="Picture 7" descr="Armasetarras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4462560" y="4440240"/>
              <a:ext cx="2179440" cy="1131840"/>
            </a:xfrm>
            <a:prstGeom prst="rect">
              <a:avLst/>
            </a:prstGeom>
            <a:ln w="9360">
              <a:solidFill>
                <a:srgbClr val="5f5f5f"/>
              </a:solidFill>
              <a:miter/>
            </a:ln>
          </p:spPr>
        </p:pic>
        <p:sp>
          <p:nvSpPr>
            <p:cNvPr id="368" name="Text Box 20"/>
            <p:cNvSpPr/>
            <p:nvPr/>
          </p:nvSpPr>
          <p:spPr>
            <a:xfrm>
              <a:off x="4407840" y="4368960"/>
              <a:ext cx="151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rrorism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25"/>
          <p:cNvGrpSpPr/>
          <p:nvPr/>
        </p:nvGrpSpPr>
        <p:grpSpPr>
          <a:xfrm>
            <a:off x="6091200" y="3772080"/>
            <a:ext cx="2852640" cy="1660320"/>
            <a:chOff x="6091200" y="3772080"/>
            <a:chExt cx="2852640" cy="1660320"/>
          </a:xfrm>
        </p:grpSpPr>
        <p:pic>
          <p:nvPicPr>
            <p:cNvPr id="370" name="Picture 8" descr="KuKluxKlan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6091200" y="3772080"/>
              <a:ext cx="2852640" cy="166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Text Box 21"/>
            <p:cNvSpPr/>
            <p:nvPr/>
          </p:nvSpPr>
          <p:spPr>
            <a:xfrm>
              <a:off x="7182000" y="5021280"/>
              <a:ext cx="118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Racism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24"/>
          <p:cNvGrpSpPr/>
          <p:nvPr/>
        </p:nvGrpSpPr>
        <p:grpSpPr>
          <a:xfrm>
            <a:off x="6661080" y="2808360"/>
            <a:ext cx="1817640" cy="1155600"/>
            <a:chOff x="6661080" y="2808360"/>
            <a:chExt cx="1817640" cy="1155600"/>
          </a:xfrm>
        </p:grpSpPr>
        <p:pic>
          <p:nvPicPr>
            <p:cNvPr id="373" name="Picture 17" descr="Patera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6661080" y="2808360"/>
              <a:ext cx="1817640" cy="1155600"/>
            </a:xfrm>
            <a:prstGeom prst="rect">
              <a:avLst/>
            </a:prstGeom>
            <a:ln w="9360">
              <a:solidFill>
                <a:srgbClr val="5f5f5f"/>
              </a:solidFill>
              <a:miter/>
            </a:ln>
          </p:spPr>
        </p:pic>
        <p:sp>
          <p:nvSpPr>
            <p:cNvPr id="374" name="Text Box 19"/>
            <p:cNvSpPr/>
            <p:nvPr/>
          </p:nvSpPr>
          <p:spPr>
            <a:xfrm>
              <a:off x="6736680" y="3538440"/>
              <a:ext cx="163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Inmigr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Freeform 27"/>
          <p:cNvSpPr/>
          <p:nvPr/>
        </p:nvSpPr>
        <p:spPr>
          <a:xfrm>
            <a:off x="4441680" y="1611360"/>
            <a:ext cx="4179960" cy="942840"/>
          </a:xfrm>
          <a:prstGeom prst="pie">
            <a:avLst/>
          </a:pr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28"/>
          <p:cNvSpPr/>
          <p:nvPr/>
        </p:nvSpPr>
        <p:spPr>
          <a:xfrm>
            <a:off x="4253040" y="1582560"/>
            <a:ext cx="4425840" cy="884520"/>
          </a:xfrm>
          <a:prstGeom prst="pie">
            <a:avLst/>
          </a:pr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29"/>
          <p:cNvSpPr/>
          <p:nvPr/>
        </p:nvSpPr>
        <p:spPr>
          <a:xfrm>
            <a:off x="173160" y="4164120"/>
            <a:ext cx="3641760" cy="1217520"/>
          </a:xfrm>
          <a:prstGeom prst="pie">
            <a:avLst/>
          </a:pr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30"/>
          <p:cNvSpPr/>
          <p:nvPr/>
        </p:nvSpPr>
        <p:spPr>
          <a:xfrm>
            <a:off x="360360" y="4135320"/>
            <a:ext cx="3657600" cy="1189080"/>
          </a:xfrm>
          <a:prstGeom prst="pie">
            <a:avLst/>
          </a:pr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  <p:sndAc>
      <p:stSnd>
        <p:snd r:embed="rId5" name="camera.wav"/>
      </p:stSnd>
    </p:sndAc>
  </p:transition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500"/>
                            </p:stCondLst>
                            <p:childTnLst>
                              <p:par>
                                <p:cTn id="96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800"/>
                            </p:stCondLst>
                            <p:childTnLst>
                              <p:par>
                                <p:cTn id="96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000"/>
                            </p:stCondLst>
                            <p:childTnLst>
                              <p:par>
                                <p:cTn id="97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1200"/>
                            </p:stCondLst>
                            <p:childTnLst>
                              <p:par>
                                <p:cTn id="97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1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2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3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8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9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0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cc"/>
                </a:solidFill>
                <a:latin typeface="Arial"/>
              </a:rPr>
              <a:t>¿Hay un esquema para hacer el comentario crítico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0" name="Text Box 25"/>
          <p:cNvSpPr/>
          <p:nvPr/>
        </p:nvSpPr>
        <p:spPr>
          <a:xfrm>
            <a:off x="1042920" y="1773360"/>
            <a:ext cx="7229520" cy="7340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  <a:ea typeface="Arial"/>
              </a:rPr>
              <a:t>Muchos alumnos se sienten más cómodos y seguros obedeciendo directrices prefijadas, per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4"/>
          <p:cNvSpPr/>
          <p:nvPr/>
        </p:nvSpPr>
        <p:spPr>
          <a:xfrm>
            <a:off x="1042920" y="2421000"/>
            <a:ext cx="7230960" cy="7340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  <a:ea typeface="Arial"/>
              </a:rPr>
              <a:t>seguir un esquema fijo para elaborar un comentario es casi contradictorio con el adjetivo </a:t>
            </a:r>
            <a:r>
              <a:rPr b="0" i="1" lang="es-ES" sz="2100" spc="-1" strike="noStrike">
                <a:solidFill>
                  <a:srgbClr val="ffffff"/>
                </a:solidFill>
                <a:latin typeface="Verdana"/>
                <a:ea typeface="Arial"/>
              </a:rPr>
              <a:t>crític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7"/>
          <p:cNvSpPr/>
          <p:nvPr/>
        </p:nvSpPr>
        <p:spPr>
          <a:xfrm>
            <a:off x="1042920" y="4005360"/>
            <a:ext cx="7229520" cy="11912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Arial"/>
              </a:rPr>
              <a:t>No hay que permitir que la creatividad y la capacidad crítica propias se vean limitadas por un esquema de comentario aj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500"/>
                            </p:stCondLst>
                            <p:childTnLst>
                              <p:par>
                                <p:cTn id="10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2 Marcador de número de diapositiva"/>
          <p:cNvSpPr/>
          <p:nvPr/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A6AC-954A-4BB4-BCD4-08B1F51523F9}" type="slidenum">
              <a:rPr b="1" lang="es-ES" sz="1200" spc="-1" strike="noStrike">
                <a:solidFill>
                  <a:srgbClr val="5f5f5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cc"/>
                </a:solidFill>
                <a:latin typeface="Arial"/>
              </a:rPr>
              <a:t>A lo mejor te puede ayudar un posible esquema…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5" name="AutoShape 7"/>
          <p:cNvSpPr/>
          <p:nvPr/>
        </p:nvSpPr>
        <p:spPr>
          <a:xfrm>
            <a:off x="900000" y="1557360"/>
            <a:ext cx="7344000" cy="460836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efe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) 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ntroducción: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actualidad del tema, intención del autor (tipo de texto, pero solo una rápida referencia)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)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Comentario personal del tema y los subtemas del 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ienes que </a:t>
            </a:r>
            <a:r>
              <a:rPr b="0" i="1" lang="es-ES" sz="1800" spc="-1" strike="noStrike">
                <a:solidFill>
                  <a:srgbClr val="cc0000"/>
                </a:solidFill>
                <a:latin typeface="Times New Roman"/>
                <a:ea typeface="Arial"/>
              </a:rPr>
              <a:t>centrarse en el tema principal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y </a:t>
            </a:r>
            <a:r>
              <a:rPr b="0" i="1" lang="es-ES" sz="1800" spc="-1" strike="noStrike">
                <a:solidFill>
                  <a:srgbClr val="cc0000"/>
                </a:solidFill>
                <a:latin typeface="Times New Roman"/>
                <a:ea typeface="Arial"/>
              </a:rPr>
              <a:t>redactar tu visión personal del mismo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(si estás de acuerdo o no, apoyándote en conocimientos, experiencias, noticias, citas de autores, obras, teorías…). Es recomendable citar enunciados textuales del texto propue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epetir lo mismo con otros temas secundarios que consideres de interés. Este apartado es opta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) </a:t>
            </a:r>
            <a:r>
              <a:rPr b="0" i="1" lang="es-ES" sz="1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Conclusiones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: recopilación de las ideas más importantes, distanciamiento del texto y consideración gene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31"/>
          <p:cNvSpPr/>
          <p:nvPr/>
        </p:nvSpPr>
        <p:spPr>
          <a:xfrm>
            <a:off x="539640" y="4292640"/>
            <a:ext cx="1079640" cy="504720"/>
          </a:xfrm>
          <a:prstGeom prst="rightArrow">
            <a:avLst>
              <a:gd name="adj1" fmla="val 50000"/>
              <a:gd name="adj2" fmla="val 534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  <p:sndAc>
      <p:stSnd>
        <p:snd r:embed="rId2" name="camera.wav"/>
      </p:stSnd>
    </p:sndAc>
  </p:transition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0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Arial"/>
              </a:rPr>
              <a:t>Trabajo realizado por María Jesús Alcántara Jiménez, profesora de Lengua y Literatura del I.E.S. “La Fuensanta”</a:t>
            </a:r>
            <a:br>
              <a:rPr sz="3200"/>
            </a:br>
            <a:r>
              <a:rPr b="0" lang="es-ES" sz="3200" spc="-1" strike="noStrike">
                <a:solidFill>
                  <a:srgbClr val="0000ff"/>
                </a:solidFill>
                <a:latin typeface="Arial"/>
              </a:rPr>
              <a:t> Curso 2009-2010</a:t>
            </a:r>
            <a:br>
              <a:rPr sz="3800"/>
            </a:br>
            <a:br>
              <a:rPr sz="38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95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990033"/>
                </a:solidFill>
                <a:latin typeface="Arial"/>
              </a:rPr>
              <a:t>                             </a:t>
            </a:r>
            <a:r>
              <a:rPr b="0" lang="es-ES" sz="2800" spc="-1" strike="noStrike">
                <a:solidFill>
                  <a:srgbClr val="990033"/>
                </a:solidFill>
                <a:latin typeface="Arial"/>
              </a:rPr>
              <a:t>Fuentes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33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990033"/>
                </a:solidFill>
                <a:latin typeface="Arial"/>
              </a:rPr>
              <a:t>1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cumento oficial sobre las direct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enerales para las Pruebas de acceso a la univers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000" spc="-1" strike="noStrike">
                <a:solidFill>
                  <a:srgbClr val="990000"/>
                </a:solidFill>
                <a:latin typeface="Arial"/>
              </a:rPr>
              <a:t>2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Apuntes de Bachillerato de Dª Rosa Muñoz Aparicio, profeso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Lengua y Literatura del I.E.S. “La Fuensanta”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000" spc="-1" strike="noStrike">
                <a:solidFill>
                  <a:srgbClr val="990033"/>
                </a:solidFill>
                <a:latin typeface="Arial"/>
              </a:rPr>
              <a:t>3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ágina de “Apuntes de Lengua” de Alfonso San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ff3300"/>
                </a:solidFill>
                <a:latin typeface="Arial"/>
              </a:rPr>
              <a:t>Veamos los diversos apartados del comentario crítico con más detenimiento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ransition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02920" y="2997360"/>
            <a:ext cx="597708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3300"/>
                </a:solidFill>
                <a:latin typeface="Arial"/>
              </a:rPr>
              <a:t>1,5 pun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cc"/>
                </a:solidFill>
                <a:latin typeface="Arial"/>
              </a:rPr>
              <a:t>Primera pregunta del examen de Selectiv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5"/>
          <p:cNvSpPr txBox="1"/>
          <p:nvPr/>
        </p:nvSpPr>
        <p:spPr>
          <a:xfrm>
            <a:off x="1979640" y="1413000"/>
            <a:ext cx="52578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Organización de las ideas</a:t>
            </a:r>
            <a:endParaRPr b="0" lang="en-US" sz="2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o estructura interna</a:t>
            </a:r>
            <a:endParaRPr b="0" lang="en-US" sz="2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  <p:sndAc>
      <p:stSnd>
        <p:snd r:embed="rId1" name="camera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3300"/>
                </a:solidFill>
                <a:latin typeface="Arial"/>
              </a:rPr>
              <a:t>¿Qué e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600" spc="-1" strike="noStrike">
                <a:solidFill>
                  <a:srgbClr val="0000cc"/>
                </a:solidFill>
                <a:latin typeface="Arial"/>
              </a:rPr>
              <a:t>Es la enunciación de las ideas fundamentales y secundarias del texto vertebradas,  jerarquizadas y representadas gráficam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3300"/>
                </a:solidFill>
                <a:latin typeface="Arial"/>
              </a:rPr>
              <a:t>Aspectos que debemos tener en cuent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0000cc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cc"/>
                </a:solidFill>
                <a:latin typeface="Arial"/>
              </a:rPr>
              <a:t>Primero hay que leer detenidamente  y de forma comprensiva el texto cuantas veces sea necesario (consultar diccionario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cc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cc"/>
                </a:solidFill>
                <a:latin typeface="Arial"/>
              </a:rPr>
              <a:t>Debemos subrayar las palabras clave y las ideas principal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7002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cc"/>
                </a:solidFill>
                <a:latin typeface="Arial"/>
              </a:rPr>
              <a:t>No subrayar much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7002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cc"/>
                </a:solidFill>
                <a:latin typeface="Arial"/>
              </a:rPr>
              <a:t>No subrayar lo secundario (fechas, ejempl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7002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cc"/>
                </a:solidFill>
                <a:latin typeface="Arial"/>
              </a:rPr>
              <a:t>El subrayado debe mantener la coherencia del tex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48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cc"/>
                </a:solidFill>
                <a:latin typeface="Arial"/>
              </a:rPr>
              <a:t>Hay que tener en cuenta la estructura externa del texto (apartados, párrafos…) pues en un texto bien construido la estructura externa y la organización de las ideas (estructura interna) están íntimamente relacionadas. Los conectores servirán de apoyo para la realización del esquema de la estructur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48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cc"/>
                </a:solidFill>
                <a:latin typeface="Arial"/>
              </a:rPr>
              <a:t>Hay que enunciar  las ideas de forma jerarquizada, no lineal  (deben de agruparse las que contengan el mismo concepto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48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cc"/>
                </a:solidFill>
                <a:latin typeface="Arial"/>
              </a:rPr>
              <a:t>Debe dividirse el texto en pocas partes: dos o tres y cada una podrá subdividirse a su vez  (mantener la estructura de lo general a lo particular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48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cc"/>
                </a:solidFill>
                <a:latin typeface="Arial"/>
              </a:rPr>
              <a:t>Deben utilizarse los  sangrados para representar la jerarquía de ide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48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80000"/>
              </a:lnSpc>
              <a:spcBef>
                <a:spcPts val="524"/>
              </a:spcBef>
              <a:buClr>
                <a:srgbClr val="0000cc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cc"/>
                </a:solidFill>
                <a:latin typeface="Arial"/>
              </a:rPr>
              <a:t>La enunciación de las ideas tiene que ser precisa y clara  mediante una frase corta, preferiblemente sin verbo, como si fuera el tema de cada apart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48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48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11280" y="69192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cc"/>
              </a:buClr>
              <a:buSzPct val="6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Puede explicarse cada apartado , pero muy brevemente y solo si hay necesidad, porque si no la explicación de la organización de las ideas se convertiría prácticamente en un resumen.</a:t>
            </a:r>
            <a:br>
              <a:rPr sz="2400"/>
            </a:b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0000cc"/>
              </a:buClr>
              <a:buSzPct val="6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Deben especificarse las líneas o los versos que ocupa cada parte del tex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0000cc"/>
              </a:buClr>
              <a:buSzPct val="6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A veces, se puede distinguir con claridad un tipo de estructura determinada (inductiva, deductiva, encuadrada…) y en ese caso debemos comentarla. Recordemos las más frecu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SE ANTONIO</cp:lastModifiedBy>
  <dcterms:modified xsi:type="dcterms:W3CDTF">2009-11-03T19:40:17Z</dcterms:modified>
  <cp:revision>36</cp:revision>
  <dc:subject/>
  <dc:title>PowerPoint Presentation</dc:title>
</cp:coreProperties>
</file>